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0D5-C909-4A67-B943-8984E1EC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946-8659-462F-9791-1C8DA6D5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AC2-45B1-4F84-A355-19412CA2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0EA-6D56-4165-88EE-064D7FBA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6EB-9CD5-4DC2-976D-A0EFB87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361-4B30-4D5F-979D-E852C944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092-448A-4169-BCDE-2601BBB5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F15A-21B0-4CBB-850B-D7B12B51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DBC-36D2-4612-9E5B-F701A299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FE2-0240-437F-A26E-E129B9DA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BEC-745A-4E54-BAB8-07CB98CE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765-D19D-46C0-B629-8A2E2469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3B17-270B-4854-8153-BBCB68C2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appllp0A.wav" TargetMode="External"/><Relationship Id="rId2" Type="http://schemas.microsoft.com/office/2007/relationships/media" Target="file:///tmp/home/.config/libreoffice/4/user/gallery/appllp0A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boinng04.wav" TargetMode="External"/><Relationship Id="rId5" Type="http://schemas.microsoft.com/office/2007/relationships/media" Target="file:///tmp/home/.config/libreoffice/4/user/gallery/boinng04.wav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BOINKK06.wav" TargetMode="External"/><Relationship Id="rId8" Type="http://schemas.microsoft.com/office/2007/relationships/media" Target="file:///tmp/home/.config/libreoffice/4/user/gallery/BOINKK06.wav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slide" Target="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2781360"/>
            <a:ext cx="79930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o wants to be a   millionai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6011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04240" y="179280"/>
            <a:ext cx="73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9 for 500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700280"/>
            <a:ext cx="435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d is measur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e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New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metres per sec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24000" y="573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3708360" y="9079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4538"/>
                </a:moveTo>
                <a:lnTo>
                  <a:pt x="17806" y="11544"/>
                </a:lnTo>
                <a:lnTo>
                  <a:pt x="3794" y="185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8172360" y="90792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5162"/>
                </a:moveTo>
                <a:lnTo>
                  <a:pt x="17806" y="12169"/>
                </a:lnTo>
                <a:lnTo>
                  <a:pt x="3794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9" dur="358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113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862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1134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4240" y="17928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10 for 1000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1680" y="1197000"/>
            <a:ext cx="844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erson going 15metres in 3 seconds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pee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07280" y="766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722920" y="549360"/>
            <a:ext cx="1371600" cy="857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00720" y="838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3780000" y="692280"/>
            <a:ext cx="647640" cy="691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1920"/>
              <a:gd name="textAreaBottom" fmla="*/ 650160 h 691920"/>
            </a:gdLst>
            <a:ahLst/>
            <a:rect l="textAreaLeft" t="textAreaTop" r="textAreaRight" b="textAreaBottom"/>
            <a:pathLst>
              <a:path w="21600" h="23076">
                <a:moveTo>
                  <a:pt x="0" y="0"/>
                </a:moveTo>
                <a:lnTo>
                  <a:pt x="21600" y="0"/>
                </a:lnTo>
                <a:lnTo>
                  <a:pt x="21600" y="23076"/>
                </a:lnTo>
                <a:lnTo>
                  <a:pt x="0" y="23076"/>
                </a:lnTo>
                <a:close/>
              </a:path>
              <a:path fill="lightenLess" w="21600" h="230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76">
                <a:moveTo>
                  <a:pt x="21600" y="0"/>
                </a:moveTo>
                <a:lnTo>
                  <a:pt x="21600" y="23076"/>
                </a:lnTo>
                <a:lnTo>
                  <a:pt x="20200" y="21676"/>
                </a:lnTo>
                <a:lnTo>
                  <a:pt x="20200" y="1400"/>
                </a:lnTo>
                <a:close/>
              </a:path>
              <a:path fill="darkenLess" w="21600" h="23076">
                <a:moveTo>
                  <a:pt x="21600" y="23076"/>
                </a:moveTo>
                <a:lnTo>
                  <a:pt x="0" y="23076"/>
                </a:lnTo>
                <a:lnTo>
                  <a:pt x="1400" y="21676"/>
                </a:lnTo>
                <a:lnTo>
                  <a:pt x="20200" y="21676"/>
                </a:lnTo>
                <a:close/>
              </a:path>
              <a:path fill="lighten" w="21600" h="23076">
                <a:moveTo>
                  <a:pt x="0" y="230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76"/>
                </a:lnTo>
                <a:close/>
              </a:path>
              <a:path fill="darken" w="21600" h="23076">
                <a:moveTo>
                  <a:pt x="3794" y="4532"/>
                </a:moveTo>
                <a:lnTo>
                  <a:pt x="17806" y="11538"/>
                </a:lnTo>
                <a:lnTo>
                  <a:pt x="3794" y="185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8244000" y="692280"/>
            <a:ext cx="576000" cy="6490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339">
                <a:moveTo>
                  <a:pt x="0" y="0"/>
                </a:moveTo>
                <a:lnTo>
                  <a:pt x="21600" y="0"/>
                </a:lnTo>
                <a:lnTo>
                  <a:pt x="21600" y="24339"/>
                </a:lnTo>
                <a:lnTo>
                  <a:pt x="0" y="24339"/>
                </a:lnTo>
                <a:close/>
              </a:path>
              <a:path fill="lightenLess" w="21600" h="243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9">
                <a:moveTo>
                  <a:pt x="21600" y="0"/>
                </a:moveTo>
                <a:lnTo>
                  <a:pt x="21600" y="24339"/>
                </a:lnTo>
                <a:lnTo>
                  <a:pt x="20200" y="22939"/>
                </a:lnTo>
                <a:lnTo>
                  <a:pt x="20200" y="1400"/>
                </a:lnTo>
                <a:close/>
              </a:path>
              <a:path fill="darkenLess" w="21600" h="24339">
                <a:moveTo>
                  <a:pt x="21600" y="24339"/>
                </a:moveTo>
                <a:lnTo>
                  <a:pt x="0" y="24339"/>
                </a:lnTo>
                <a:lnTo>
                  <a:pt x="1400" y="22939"/>
                </a:lnTo>
                <a:lnTo>
                  <a:pt x="20200" y="22939"/>
                </a:lnTo>
                <a:close/>
              </a:path>
              <a:path fill="lighten" w="21600" h="24339">
                <a:moveTo>
                  <a:pt x="0" y="243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9"/>
                </a:lnTo>
                <a:close/>
              </a:path>
              <a:path fill="darken" w="21600" h="24339">
                <a:moveTo>
                  <a:pt x="3794" y="5163"/>
                </a:moveTo>
                <a:lnTo>
                  <a:pt x="17806" y="12169"/>
                </a:lnTo>
                <a:lnTo>
                  <a:pt x="3794" y="191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32400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2509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3240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0200" y="170028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02000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11755"/>
                </a:moveTo>
                <a:lnTo>
                  <a:pt x="17806" y="4748"/>
                </a:lnTo>
                <a:lnTo>
                  <a:pt x="17806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5912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43640" y="1773360"/>
            <a:ext cx="2867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centi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New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4560" y="170028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6588000" y="6093000"/>
            <a:ext cx="863640" cy="765000"/>
          </a:xfrm>
          <a:custGeom>
            <a:avLst/>
            <a:gdLst>
              <a:gd name="textAreaLeft" fmla="*/ 49320 w 863640"/>
              <a:gd name="textAreaRight" fmla="*/ 814320 w 863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4384" h="21600">
                <a:moveTo>
                  <a:pt x="0" y="0"/>
                </a:moveTo>
                <a:lnTo>
                  <a:pt x="24384" y="0"/>
                </a:lnTo>
                <a:lnTo>
                  <a:pt x="24384" y="21600"/>
                </a:lnTo>
                <a:lnTo>
                  <a:pt x="0" y="21600"/>
                </a:lnTo>
                <a:close/>
              </a:path>
              <a:path fill="lightenLess" w="24384" h="21600">
                <a:moveTo>
                  <a:pt x="0" y="0"/>
                </a:moveTo>
                <a:lnTo>
                  <a:pt x="24384" y="0"/>
                </a:lnTo>
                <a:lnTo>
                  <a:pt x="22984" y="1400"/>
                </a:lnTo>
                <a:lnTo>
                  <a:pt x="1400" y="1400"/>
                </a:lnTo>
                <a:close/>
              </a:path>
              <a:path fill="darken" w="24384" h="21600">
                <a:moveTo>
                  <a:pt x="24384" y="0"/>
                </a:moveTo>
                <a:lnTo>
                  <a:pt x="24384" y="21600"/>
                </a:lnTo>
                <a:lnTo>
                  <a:pt x="22984" y="20200"/>
                </a:lnTo>
                <a:lnTo>
                  <a:pt x="22984" y="1400"/>
                </a:lnTo>
                <a:close/>
              </a:path>
              <a:path fill="darkenLess" w="24384" h="21600">
                <a:moveTo>
                  <a:pt x="2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84" y="20200"/>
                </a:lnTo>
                <a:close/>
              </a:path>
              <a:path fill="lighten" w="2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84" h="21600">
                <a:moveTo>
                  <a:pt x="5185" y="10800"/>
                </a:moveTo>
                <a:lnTo>
                  <a:pt x="19198" y="3794"/>
                </a:lnTo>
                <a:lnTo>
                  <a:pt x="191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1700280"/>
            <a:ext cx="223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 gra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upth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5840" y="1700280"/>
            <a:ext cx="39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6948360" y="623736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11629"/>
                </a:moveTo>
                <a:lnTo>
                  <a:pt x="17806" y="4623"/>
                </a:lnTo>
                <a:lnTo>
                  <a:pt x="17806" y="186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1700280"/>
            <a:ext cx="210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weigh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4200" y="1773360"/>
            <a:ext cx="39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380360" y="6237360"/>
            <a:ext cx="504720" cy="620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20640"/>
              <a:gd name="textAreaBottom" fmla="*/ 588240 h 620640"/>
            </a:gdLst>
            <a:ahLst/>
            <a:rect l="textAreaLeft" t="textAreaTop" r="textAreaRight" b="textAreaBottom"/>
            <a:pathLst>
              <a:path w="21600" h="26557">
                <a:moveTo>
                  <a:pt x="0" y="0"/>
                </a:moveTo>
                <a:lnTo>
                  <a:pt x="21600" y="0"/>
                </a:lnTo>
                <a:lnTo>
                  <a:pt x="21600" y="26557"/>
                </a:lnTo>
                <a:lnTo>
                  <a:pt x="0" y="26557"/>
                </a:lnTo>
                <a:close/>
              </a:path>
              <a:path fill="lightenLess" w="21600" h="265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7">
                <a:moveTo>
                  <a:pt x="21600" y="0"/>
                </a:moveTo>
                <a:lnTo>
                  <a:pt x="21600" y="26557"/>
                </a:lnTo>
                <a:lnTo>
                  <a:pt x="20200" y="25157"/>
                </a:lnTo>
                <a:lnTo>
                  <a:pt x="20200" y="1400"/>
                </a:lnTo>
                <a:close/>
              </a:path>
              <a:path fill="darkenLess" w="21600" h="26557">
                <a:moveTo>
                  <a:pt x="21600" y="26557"/>
                </a:moveTo>
                <a:lnTo>
                  <a:pt x="0" y="26557"/>
                </a:lnTo>
                <a:lnTo>
                  <a:pt x="1400" y="25157"/>
                </a:lnTo>
                <a:lnTo>
                  <a:pt x="20200" y="25157"/>
                </a:lnTo>
                <a:close/>
              </a:path>
              <a:path fill="lighten" w="21600" h="26557">
                <a:moveTo>
                  <a:pt x="0" y="265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7"/>
                </a:lnTo>
                <a:close/>
              </a:path>
              <a:path fill="darken" w="21600" h="26557">
                <a:moveTo>
                  <a:pt x="3794" y="13279"/>
                </a:moveTo>
                <a:lnTo>
                  <a:pt x="17806" y="6272"/>
                </a:lnTo>
                <a:lnTo>
                  <a:pt x="17806" y="202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0600" y="1773360"/>
            <a:ext cx="7090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how fast you fall through the ai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8920" y="1700280"/>
            <a:ext cx="39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380360" y="6237360"/>
            <a:ext cx="504720" cy="620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20640"/>
              <a:gd name="textAreaBottom" fmla="*/ 588240 h 620640"/>
            </a:gdLst>
            <a:ahLst/>
            <a:rect l="textAreaLeft" t="textAreaTop" r="textAreaRight" b="textAreaBottom"/>
            <a:pathLst>
              <a:path w="21600" h="26557">
                <a:moveTo>
                  <a:pt x="0" y="0"/>
                </a:moveTo>
                <a:lnTo>
                  <a:pt x="21600" y="0"/>
                </a:lnTo>
                <a:lnTo>
                  <a:pt x="21600" y="26557"/>
                </a:lnTo>
                <a:lnTo>
                  <a:pt x="0" y="26557"/>
                </a:lnTo>
                <a:close/>
              </a:path>
              <a:path fill="lightenLess" w="21600" h="265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7">
                <a:moveTo>
                  <a:pt x="21600" y="0"/>
                </a:moveTo>
                <a:lnTo>
                  <a:pt x="21600" y="26557"/>
                </a:lnTo>
                <a:lnTo>
                  <a:pt x="20200" y="25157"/>
                </a:lnTo>
                <a:lnTo>
                  <a:pt x="20200" y="1400"/>
                </a:lnTo>
                <a:close/>
              </a:path>
              <a:path fill="darkenLess" w="21600" h="26557">
                <a:moveTo>
                  <a:pt x="21600" y="26557"/>
                </a:moveTo>
                <a:lnTo>
                  <a:pt x="0" y="26557"/>
                </a:lnTo>
                <a:lnTo>
                  <a:pt x="1400" y="25157"/>
                </a:lnTo>
                <a:lnTo>
                  <a:pt x="20200" y="25157"/>
                </a:lnTo>
                <a:close/>
              </a:path>
              <a:path fill="lighten" w="21600" h="26557">
                <a:moveTo>
                  <a:pt x="0" y="265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7"/>
                </a:lnTo>
                <a:close/>
              </a:path>
              <a:path fill="darken" w="21600" h="26557">
                <a:moveTo>
                  <a:pt x="3794" y="13279"/>
                </a:moveTo>
                <a:lnTo>
                  <a:pt x="17806" y="6272"/>
                </a:lnTo>
                <a:lnTo>
                  <a:pt x="17806" y="202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700280"/>
            <a:ext cx="307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travel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accel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5840" y="1700280"/>
            <a:ext cx="39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6443640" y="6093000"/>
            <a:ext cx="720720" cy="765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26">
                <a:moveTo>
                  <a:pt x="0" y="0"/>
                </a:moveTo>
                <a:lnTo>
                  <a:pt x="21600" y="0"/>
                </a:lnTo>
                <a:lnTo>
                  <a:pt x="21600" y="22926"/>
                </a:lnTo>
                <a:lnTo>
                  <a:pt x="0" y="22926"/>
                </a:lnTo>
                <a:close/>
              </a:path>
              <a:path fill="lightenLess" w="21600" h="22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26">
                <a:moveTo>
                  <a:pt x="21600" y="0"/>
                </a:moveTo>
                <a:lnTo>
                  <a:pt x="21600" y="22926"/>
                </a:lnTo>
                <a:lnTo>
                  <a:pt x="20200" y="21526"/>
                </a:lnTo>
                <a:lnTo>
                  <a:pt x="20200" y="1400"/>
                </a:lnTo>
                <a:close/>
              </a:path>
              <a:path fill="darkenLess" w="21600" h="22926">
                <a:moveTo>
                  <a:pt x="21600" y="22926"/>
                </a:moveTo>
                <a:lnTo>
                  <a:pt x="0" y="22926"/>
                </a:lnTo>
                <a:lnTo>
                  <a:pt x="1400" y="21526"/>
                </a:lnTo>
                <a:lnTo>
                  <a:pt x="20200" y="21526"/>
                </a:lnTo>
                <a:close/>
              </a:path>
              <a:path fill="lighten" w="21600" h="22926">
                <a:moveTo>
                  <a:pt x="0" y="22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26"/>
                </a:lnTo>
                <a:close/>
              </a:path>
              <a:path fill="darken" w="21600" h="22926">
                <a:moveTo>
                  <a:pt x="3794" y="11463"/>
                </a:moveTo>
                <a:lnTo>
                  <a:pt x="17806" y="4457"/>
                </a:lnTo>
                <a:lnTo>
                  <a:pt x="17806" y="1847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1700280"/>
            <a:ext cx="2957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5840" y="1700280"/>
            <a:ext cx="39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673272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3794" y="12979"/>
                </a:moveTo>
                <a:lnTo>
                  <a:pt x="17806" y="5972"/>
                </a:lnTo>
                <a:lnTo>
                  <a:pt x="17806" y="199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560" y="1700280"/>
            <a:ext cx="3882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ot mo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moving steadil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5840" y="1628640"/>
            <a:ext cx="39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6948360" y="6093000"/>
            <a:ext cx="648000" cy="76500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765000"/>
              <a:gd name="textAreaBottom" fmla="*/ 723240 h 765000"/>
            </a:gdLst>
            <a:ahLst/>
            <a:rect l="textAreaLeft" t="textAreaTop" r="textAreaRight" b="textAreaBottom"/>
            <a:pathLst>
              <a:path w="21600" h="25498">
                <a:moveTo>
                  <a:pt x="0" y="0"/>
                </a:moveTo>
                <a:lnTo>
                  <a:pt x="21600" y="0"/>
                </a:lnTo>
                <a:lnTo>
                  <a:pt x="21600" y="25498"/>
                </a:lnTo>
                <a:lnTo>
                  <a:pt x="0" y="25498"/>
                </a:lnTo>
                <a:close/>
              </a:path>
              <a:path fill="lightenLess" w="21600" h="254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98">
                <a:moveTo>
                  <a:pt x="21600" y="0"/>
                </a:moveTo>
                <a:lnTo>
                  <a:pt x="21600" y="25498"/>
                </a:lnTo>
                <a:lnTo>
                  <a:pt x="20200" y="24098"/>
                </a:lnTo>
                <a:lnTo>
                  <a:pt x="20200" y="1400"/>
                </a:lnTo>
                <a:close/>
              </a:path>
              <a:path fill="darkenLess" w="21600" h="25498">
                <a:moveTo>
                  <a:pt x="21600" y="25498"/>
                </a:moveTo>
                <a:lnTo>
                  <a:pt x="0" y="25498"/>
                </a:lnTo>
                <a:lnTo>
                  <a:pt x="1400" y="24098"/>
                </a:lnTo>
                <a:lnTo>
                  <a:pt x="20200" y="24098"/>
                </a:lnTo>
                <a:close/>
              </a:path>
              <a:path fill="lighten" w="21600" h="25498">
                <a:moveTo>
                  <a:pt x="0" y="254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98"/>
                </a:lnTo>
                <a:close/>
              </a:path>
              <a:path fill="darken" w="21600" h="25498">
                <a:moveTo>
                  <a:pt x="3794" y="12749"/>
                </a:moveTo>
                <a:lnTo>
                  <a:pt x="17806" y="5742"/>
                </a:lnTo>
                <a:lnTo>
                  <a:pt x="17806" y="1975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7280" y="1268280"/>
            <a:ext cx="1491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39528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04600" y="179280"/>
            <a:ext cx="66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1 for 1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0560" y="1700280"/>
            <a:ext cx="629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rces are always measur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centi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 Her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 Pascal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New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3" action="ppaction://hlinksldjump"/>
          </p:cNvPr>
          <p:cNvSpPr/>
          <p:nvPr/>
        </p:nvSpPr>
        <p:spPr>
          <a:xfrm>
            <a:off x="3708360" y="9079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4538"/>
                </a:moveTo>
                <a:lnTo>
                  <a:pt x="17806" y="11544"/>
                </a:lnTo>
                <a:lnTo>
                  <a:pt x="3794" y="185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492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  <p:audio isNarration="0">
              <p:cMediaNode showWhenStopped="1">
                <p:cTn/>
                <p:tgtEl>
                  <p:spTgt spid="46"/>
                </p:tgtEl>
              </p:cMediaNode>
            </p:audio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5840" y="1700280"/>
            <a:ext cx="39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680400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560" y="1700280"/>
            <a:ext cx="4312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metres per sec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5480" y="1700280"/>
            <a:ext cx="422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/50 for questio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6720" y="1197000"/>
            <a:ext cx="1151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4920" y="2852640"/>
            <a:ext cx="55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1 is Lo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5640" y="2852640"/>
            <a:ext cx="54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2 is K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8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14920" y="2852640"/>
            <a:ext cx="64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3 is Stephen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9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3840" y="2852640"/>
            <a:ext cx="58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iend for question 4 is Lyns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4560" y="2852640"/>
            <a:ext cx="56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5 is J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14920" y="285264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6 is Rach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4920" y="2852640"/>
            <a:ext cx="60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7 is Steven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3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14920" y="2852640"/>
            <a:ext cx="59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iend for question 8 is Gem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4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4600" y="179280"/>
            <a:ext cx="66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2 for 5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3120" y="1700280"/>
            <a:ext cx="604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force of the earth is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earth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 gra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upth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9528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7" action="ppaction://hlinksldjump"/>
          </p:cNvPr>
          <p:cNvSpPr/>
          <p:nvPr/>
        </p:nvSpPr>
        <p:spPr>
          <a:xfrm>
            <a:off x="3780000" y="907920"/>
            <a:ext cx="504720" cy="621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21000"/>
              <a:gd name="textAreaBottom" fmla="*/ 588600 h 621000"/>
            </a:gdLst>
            <a:ahLst/>
            <a:rect l="textAreaLeft" t="textAreaTop" r="textAreaRight" b="textAreaBottom"/>
            <a:pathLst>
              <a:path w="21600" h="26573">
                <a:moveTo>
                  <a:pt x="0" y="0"/>
                </a:moveTo>
                <a:lnTo>
                  <a:pt x="21600" y="0"/>
                </a:lnTo>
                <a:lnTo>
                  <a:pt x="21600" y="26573"/>
                </a:lnTo>
                <a:lnTo>
                  <a:pt x="0" y="26573"/>
                </a:lnTo>
                <a:close/>
              </a:path>
              <a:path fill="lightenLess" w="21600" h="265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3">
                <a:moveTo>
                  <a:pt x="21600" y="0"/>
                </a:moveTo>
                <a:lnTo>
                  <a:pt x="21600" y="26573"/>
                </a:lnTo>
                <a:lnTo>
                  <a:pt x="20200" y="25173"/>
                </a:lnTo>
                <a:lnTo>
                  <a:pt x="20200" y="1400"/>
                </a:lnTo>
                <a:close/>
              </a:path>
              <a:path fill="darkenLess" w="21600" h="26573">
                <a:moveTo>
                  <a:pt x="21600" y="26573"/>
                </a:moveTo>
                <a:lnTo>
                  <a:pt x="0" y="26573"/>
                </a:lnTo>
                <a:lnTo>
                  <a:pt x="1400" y="25173"/>
                </a:lnTo>
                <a:lnTo>
                  <a:pt x="20200" y="25173"/>
                </a:lnTo>
                <a:close/>
              </a:path>
              <a:path fill="lighten" w="21600" h="26573">
                <a:moveTo>
                  <a:pt x="0" y="265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3"/>
                </a:lnTo>
                <a:close/>
              </a:path>
              <a:path fill="darken" w="21600" h="26573">
                <a:moveTo>
                  <a:pt x="3794" y="6280"/>
                </a:moveTo>
                <a:lnTo>
                  <a:pt x="17806" y="13286"/>
                </a:lnTo>
                <a:lnTo>
                  <a:pt x="3794" y="202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8" action="ppaction://hlinksldjump"/>
          </p:cNvPr>
          <p:cNvSpPr/>
          <p:nvPr/>
        </p:nvSpPr>
        <p:spPr>
          <a:xfrm>
            <a:off x="8028000" y="105264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58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13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86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13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16000" y="2852640"/>
            <a:ext cx="53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9 is Pa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43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12971"/>
                </a:moveTo>
                <a:lnTo>
                  <a:pt x="17806" y="5964"/>
                </a:lnTo>
                <a:lnTo>
                  <a:pt x="17806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5640" y="2852640"/>
            <a:ext cx="60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 for question 10 is Soph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58104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 repeatCount="100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1600" y="372960"/>
            <a:ext cx="715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 do a walking activity to plot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716436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2"/>
                </a:moveTo>
                <a:lnTo>
                  <a:pt x="17806" y="11788"/>
                </a:lnTo>
                <a:lnTo>
                  <a:pt x="3794" y="187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50360" y="6329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164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4790"/>
                </a:moveTo>
                <a:lnTo>
                  <a:pt x="17806" y="11797"/>
                </a:lnTo>
                <a:lnTo>
                  <a:pt x="3794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980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7451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5964"/>
                </a:moveTo>
                <a:lnTo>
                  <a:pt x="17806" y="12971"/>
                </a:lnTo>
                <a:lnTo>
                  <a:pt x="3794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10720" y="61848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7451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5964"/>
                </a:moveTo>
                <a:lnTo>
                  <a:pt x="17806" y="12971"/>
                </a:lnTo>
                <a:lnTo>
                  <a:pt x="3794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10720" y="61848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7451640" y="6165720"/>
            <a:ext cx="576360" cy="692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42">
                <a:moveTo>
                  <a:pt x="0" y="0"/>
                </a:moveTo>
                <a:lnTo>
                  <a:pt x="21600" y="0"/>
                </a:lnTo>
                <a:lnTo>
                  <a:pt x="21600" y="25942"/>
                </a:lnTo>
                <a:lnTo>
                  <a:pt x="0" y="25942"/>
                </a:lnTo>
                <a:close/>
              </a:path>
              <a:path fill="lightenLess" w="21600" h="25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42">
                <a:moveTo>
                  <a:pt x="21600" y="0"/>
                </a:moveTo>
                <a:lnTo>
                  <a:pt x="21600" y="25942"/>
                </a:lnTo>
                <a:lnTo>
                  <a:pt x="20200" y="24542"/>
                </a:lnTo>
                <a:lnTo>
                  <a:pt x="20200" y="1400"/>
                </a:lnTo>
                <a:close/>
              </a:path>
              <a:path fill="darkenLess" w="21600" h="25942">
                <a:moveTo>
                  <a:pt x="21600" y="25942"/>
                </a:moveTo>
                <a:lnTo>
                  <a:pt x="0" y="25942"/>
                </a:lnTo>
                <a:lnTo>
                  <a:pt x="1400" y="24542"/>
                </a:lnTo>
                <a:lnTo>
                  <a:pt x="20200" y="24542"/>
                </a:lnTo>
                <a:close/>
              </a:path>
              <a:path fill="lighten" w="21600" h="25942">
                <a:moveTo>
                  <a:pt x="0" y="25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42"/>
                </a:lnTo>
                <a:close/>
              </a:path>
              <a:path fill="darken" w="21600" h="25942">
                <a:moveTo>
                  <a:pt x="3794" y="5964"/>
                </a:moveTo>
                <a:lnTo>
                  <a:pt x="17806" y="12971"/>
                </a:lnTo>
                <a:lnTo>
                  <a:pt x="3794" y="199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10720" y="61848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4000" y="3860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04240" y="179280"/>
            <a:ext cx="68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3 for 2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1520" y="1700280"/>
            <a:ext cx="788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force always works opposite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ay an object is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 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 weigh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bun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780000" y="9079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8172360" y="98100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5128"/>
                </a:moveTo>
                <a:lnTo>
                  <a:pt x="17806" y="12135"/>
                </a:lnTo>
                <a:lnTo>
                  <a:pt x="3794" y="191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358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13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86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1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400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04240" y="179280"/>
            <a:ext cx="68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4 for 8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040" y="1773360"/>
            <a:ext cx="5260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eight of an objec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it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its mass x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its mass /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7" action="ppaction://hlinksldjump"/>
          </p:cNvPr>
          <p:cNvSpPr/>
          <p:nvPr/>
        </p:nvSpPr>
        <p:spPr>
          <a:xfrm>
            <a:off x="3780000" y="907920"/>
            <a:ext cx="576000" cy="621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1000"/>
              <a:gd name="textAreaBottom" fmla="*/ 583920 h 621000"/>
            </a:gdLst>
            <a:ahLst/>
            <a:rect l="textAreaLeft" t="textAreaTop" r="textAreaRight" b="textAreaBottom"/>
            <a:pathLst>
              <a:path w="21600" h="23286">
                <a:moveTo>
                  <a:pt x="0" y="0"/>
                </a:moveTo>
                <a:lnTo>
                  <a:pt x="21600" y="0"/>
                </a:lnTo>
                <a:lnTo>
                  <a:pt x="21600" y="23286"/>
                </a:lnTo>
                <a:lnTo>
                  <a:pt x="0" y="23286"/>
                </a:lnTo>
                <a:close/>
              </a:path>
              <a:path fill="lightenLess" w="21600" h="232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6">
                <a:moveTo>
                  <a:pt x="21600" y="0"/>
                </a:moveTo>
                <a:lnTo>
                  <a:pt x="21600" y="23286"/>
                </a:lnTo>
                <a:lnTo>
                  <a:pt x="20200" y="21886"/>
                </a:lnTo>
                <a:lnTo>
                  <a:pt x="20200" y="1400"/>
                </a:lnTo>
                <a:close/>
              </a:path>
              <a:path fill="darkenLess" w="21600" h="23286">
                <a:moveTo>
                  <a:pt x="21600" y="23286"/>
                </a:moveTo>
                <a:lnTo>
                  <a:pt x="0" y="23286"/>
                </a:lnTo>
                <a:lnTo>
                  <a:pt x="1400" y="21886"/>
                </a:lnTo>
                <a:lnTo>
                  <a:pt x="20200" y="21886"/>
                </a:lnTo>
                <a:close/>
              </a:path>
              <a:path fill="lighten" w="21600" h="23286">
                <a:moveTo>
                  <a:pt x="0" y="232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6"/>
                </a:lnTo>
                <a:close/>
              </a:path>
              <a:path fill="darken" w="21600" h="23286">
                <a:moveTo>
                  <a:pt x="3794" y="4637"/>
                </a:moveTo>
                <a:lnTo>
                  <a:pt x="17806" y="11643"/>
                </a:lnTo>
                <a:lnTo>
                  <a:pt x="3794" y="186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8" action="ppaction://hlinksldjump"/>
          </p:cNvPr>
          <p:cNvSpPr/>
          <p:nvPr/>
        </p:nvSpPr>
        <p:spPr>
          <a:xfrm>
            <a:off x="8172360" y="90792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5162"/>
                </a:moveTo>
                <a:lnTo>
                  <a:pt x="17806" y="12169"/>
                </a:lnTo>
                <a:lnTo>
                  <a:pt x="3794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3583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134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86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13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4240" y="179280"/>
            <a:ext cx="71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5 for 32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7120" y="1700280"/>
            <a:ext cx="7584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ust of a car engine makes a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travel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accel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3635280" y="836640"/>
            <a:ext cx="647640" cy="765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65000"/>
              <a:gd name="textAreaBottom" fmla="*/ 723240 h 765000"/>
            </a:gdLst>
            <a:ahLst/>
            <a:rect l="textAreaLeft" t="textAreaTop" r="textAreaRight" b="textAreaBottom"/>
            <a:pathLst>
              <a:path w="21600" h="25512">
                <a:moveTo>
                  <a:pt x="0" y="0"/>
                </a:moveTo>
                <a:lnTo>
                  <a:pt x="21600" y="0"/>
                </a:lnTo>
                <a:lnTo>
                  <a:pt x="21600" y="25512"/>
                </a:lnTo>
                <a:lnTo>
                  <a:pt x="0" y="25512"/>
                </a:lnTo>
                <a:close/>
              </a:path>
              <a:path fill="lightenLess" w="21600" h="25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12">
                <a:moveTo>
                  <a:pt x="21600" y="0"/>
                </a:moveTo>
                <a:lnTo>
                  <a:pt x="21600" y="25512"/>
                </a:lnTo>
                <a:lnTo>
                  <a:pt x="20200" y="24112"/>
                </a:lnTo>
                <a:lnTo>
                  <a:pt x="20200" y="1400"/>
                </a:lnTo>
                <a:close/>
              </a:path>
              <a:path fill="darkenLess" w="21600" h="25512">
                <a:moveTo>
                  <a:pt x="21600" y="25512"/>
                </a:moveTo>
                <a:lnTo>
                  <a:pt x="0" y="25512"/>
                </a:lnTo>
                <a:lnTo>
                  <a:pt x="1400" y="24112"/>
                </a:lnTo>
                <a:lnTo>
                  <a:pt x="20200" y="24112"/>
                </a:lnTo>
                <a:close/>
              </a:path>
              <a:path fill="lighten" w="21600" h="25512">
                <a:moveTo>
                  <a:pt x="0" y="25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12"/>
                </a:lnTo>
                <a:close/>
              </a:path>
              <a:path fill="darken" w="21600" h="25512">
                <a:moveTo>
                  <a:pt x="3794" y="5750"/>
                </a:moveTo>
                <a:lnTo>
                  <a:pt x="17806" y="12756"/>
                </a:lnTo>
                <a:lnTo>
                  <a:pt x="3794" y="1976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8" action="ppaction://hlinksldjump"/>
          </p:cNvPr>
          <p:cNvSpPr/>
          <p:nvPr/>
        </p:nvSpPr>
        <p:spPr>
          <a:xfrm>
            <a:off x="8244000" y="836640"/>
            <a:ext cx="576000" cy="647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85">
                <a:moveTo>
                  <a:pt x="0" y="0"/>
                </a:moveTo>
                <a:lnTo>
                  <a:pt x="21600" y="0"/>
                </a:lnTo>
                <a:lnTo>
                  <a:pt x="21600" y="24285"/>
                </a:lnTo>
                <a:lnTo>
                  <a:pt x="0" y="24285"/>
                </a:lnTo>
                <a:close/>
              </a:path>
              <a:path fill="lightenLess" w="21600" h="24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5">
                <a:moveTo>
                  <a:pt x="21600" y="0"/>
                </a:moveTo>
                <a:lnTo>
                  <a:pt x="21600" y="24285"/>
                </a:lnTo>
                <a:lnTo>
                  <a:pt x="20200" y="22885"/>
                </a:lnTo>
                <a:lnTo>
                  <a:pt x="20200" y="1400"/>
                </a:lnTo>
                <a:close/>
              </a:path>
              <a:path fill="darkenLess" w="21600" h="24285">
                <a:moveTo>
                  <a:pt x="21600" y="24285"/>
                </a:moveTo>
                <a:lnTo>
                  <a:pt x="0" y="24285"/>
                </a:lnTo>
                <a:lnTo>
                  <a:pt x="1400" y="22885"/>
                </a:lnTo>
                <a:lnTo>
                  <a:pt x="20200" y="22885"/>
                </a:lnTo>
                <a:close/>
              </a:path>
              <a:path fill="lighten" w="21600" h="24285">
                <a:moveTo>
                  <a:pt x="0" y="24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5"/>
                </a:lnTo>
                <a:close/>
              </a:path>
              <a:path fill="darken" w="21600" h="24285">
                <a:moveTo>
                  <a:pt x="3794" y="5136"/>
                </a:moveTo>
                <a:lnTo>
                  <a:pt x="17806" y="12142"/>
                </a:lnTo>
                <a:lnTo>
                  <a:pt x="3794" y="191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358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13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86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134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04240" y="179280"/>
            <a:ext cx="71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6 for 64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2600" y="1700280"/>
            <a:ext cx="7224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d is worked out by divid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nce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3492360" y="836640"/>
            <a:ext cx="719280" cy="7650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72">
                <a:moveTo>
                  <a:pt x="0" y="0"/>
                </a:moveTo>
                <a:lnTo>
                  <a:pt x="21600" y="0"/>
                </a:lnTo>
                <a:lnTo>
                  <a:pt x="21600" y="22972"/>
                </a:lnTo>
                <a:lnTo>
                  <a:pt x="0" y="22972"/>
                </a:lnTo>
                <a:close/>
              </a:path>
              <a:path fill="lightenLess" w="21600" h="22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2">
                <a:moveTo>
                  <a:pt x="21600" y="0"/>
                </a:moveTo>
                <a:lnTo>
                  <a:pt x="21600" y="22972"/>
                </a:lnTo>
                <a:lnTo>
                  <a:pt x="20200" y="21572"/>
                </a:lnTo>
                <a:lnTo>
                  <a:pt x="20200" y="1400"/>
                </a:lnTo>
                <a:close/>
              </a:path>
              <a:path fill="darkenLess" w="21600" h="22972">
                <a:moveTo>
                  <a:pt x="21600" y="22972"/>
                </a:moveTo>
                <a:lnTo>
                  <a:pt x="0" y="22972"/>
                </a:lnTo>
                <a:lnTo>
                  <a:pt x="1400" y="21572"/>
                </a:lnTo>
                <a:lnTo>
                  <a:pt x="20200" y="21572"/>
                </a:lnTo>
                <a:close/>
              </a:path>
              <a:path fill="lighten" w="21600" h="22972">
                <a:moveTo>
                  <a:pt x="0" y="22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2"/>
                </a:lnTo>
                <a:close/>
              </a:path>
              <a:path fill="darken" w="21600" h="22972">
                <a:moveTo>
                  <a:pt x="3794" y="4480"/>
                </a:moveTo>
                <a:lnTo>
                  <a:pt x="17806" y="11486"/>
                </a:lnTo>
                <a:lnTo>
                  <a:pt x="3794" y="184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8" action="ppaction://hlinksldjump"/>
          </p:cNvPr>
          <p:cNvSpPr/>
          <p:nvPr/>
        </p:nvSpPr>
        <p:spPr>
          <a:xfrm>
            <a:off x="8172360" y="90792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5162"/>
                </a:moveTo>
                <a:lnTo>
                  <a:pt x="17806" y="12169"/>
                </a:lnTo>
                <a:lnTo>
                  <a:pt x="3794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358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13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86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1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04240" y="179280"/>
            <a:ext cx="73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7 for 125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3680" y="1700280"/>
            <a:ext cx="835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lat line for a distance time graph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ers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ot mo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d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moving steadil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36000" y="98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29440" y="1054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780000" y="9079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3794" y="5972"/>
                </a:moveTo>
                <a:lnTo>
                  <a:pt x="17806" y="12979"/>
                </a:lnTo>
                <a:lnTo>
                  <a:pt x="3794" y="199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8244000" y="90792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358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13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86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113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04240" y="179280"/>
            <a:ext cx="73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number 8 for 2500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3680" y="1268280"/>
            <a:ext cx="8012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eep line means the object is mo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all over th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round the b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020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435640" y="547560"/>
            <a:ext cx="1371600" cy="857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213440" y="83664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7" action="ppaction://hlinksldjump"/>
          </p:cNvPr>
          <p:cNvSpPr/>
          <p:nvPr/>
        </p:nvSpPr>
        <p:spPr>
          <a:xfrm>
            <a:off x="3492360" y="692280"/>
            <a:ext cx="649440" cy="691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91920"/>
              <a:gd name="textAreaBottom" fmla="*/ 650160 h 691920"/>
            </a:gdLst>
            <a:ahLst/>
            <a:rect l="textAreaLeft" t="textAreaTop" r="textAreaRight" b="textAreaBottom"/>
            <a:pathLst>
              <a:path w="21600" h="23012">
                <a:moveTo>
                  <a:pt x="0" y="0"/>
                </a:moveTo>
                <a:lnTo>
                  <a:pt x="21600" y="0"/>
                </a:lnTo>
                <a:lnTo>
                  <a:pt x="21600" y="23012"/>
                </a:lnTo>
                <a:lnTo>
                  <a:pt x="0" y="23012"/>
                </a:lnTo>
                <a:close/>
              </a:path>
              <a:path fill="lightenLess" w="21600" h="23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2">
                <a:moveTo>
                  <a:pt x="21600" y="0"/>
                </a:moveTo>
                <a:lnTo>
                  <a:pt x="21600" y="23012"/>
                </a:lnTo>
                <a:lnTo>
                  <a:pt x="20200" y="21612"/>
                </a:lnTo>
                <a:lnTo>
                  <a:pt x="20200" y="1400"/>
                </a:lnTo>
                <a:close/>
              </a:path>
              <a:path fill="darkenLess" w="21600" h="23012">
                <a:moveTo>
                  <a:pt x="21600" y="23012"/>
                </a:moveTo>
                <a:lnTo>
                  <a:pt x="0" y="23012"/>
                </a:lnTo>
                <a:lnTo>
                  <a:pt x="1400" y="21612"/>
                </a:lnTo>
                <a:lnTo>
                  <a:pt x="20200" y="21612"/>
                </a:lnTo>
                <a:close/>
              </a:path>
              <a:path fill="lighten" w="21600" h="23012">
                <a:moveTo>
                  <a:pt x="0" y="23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2"/>
                </a:lnTo>
                <a:close/>
              </a:path>
              <a:path fill="darken" w="21600" h="23012">
                <a:moveTo>
                  <a:pt x="3794" y="4500"/>
                </a:moveTo>
                <a:lnTo>
                  <a:pt x="17806" y="11506"/>
                </a:lnTo>
                <a:lnTo>
                  <a:pt x="3794" y="185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8" action="ppaction://hlinksldjump"/>
          </p:cNvPr>
          <p:cNvSpPr/>
          <p:nvPr/>
        </p:nvSpPr>
        <p:spPr>
          <a:xfrm>
            <a:off x="7956720" y="76500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3583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1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86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1134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0T21:40:42Z</dcterms:created>
  <dc:creator>CHE</dc:creator>
  <dc:description/>
  <dc:language>en-US</dc:language>
  <cp:lastModifiedBy>Alex Robson</cp:lastModifiedBy>
  <dcterms:modified xsi:type="dcterms:W3CDTF">2005-12-03T20:18:24Z</dcterms:modified>
  <cp:revision>28</cp:revision>
  <dc:subject/>
  <dc:title>Slide 1</dc:title>
</cp:coreProperties>
</file>