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ashreg.wav" ContentType="audio/x-wav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85120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49120"/>
            <a:ext cx="26190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4912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851200"/>
            <a:ext cx="396936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49120"/>
            <a:ext cx="8134200" cy="173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189000" indent="-189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-248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7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57880" indent="-1782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98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45864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0812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9532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8953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1773360"/>
            <a:ext cx="544032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5200"/>
            </a:br>
            <a:r>
              <a:rPr b="0" lang="en-US" sz="52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5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950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tudy of Mind &amp; Behaviou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971800" cy="252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9800" y="3454560"/>
            <a:ext cx="81345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ignificant differences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 processes of regular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regular gambl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pothe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significant differences in the behaviours of regular and non-regular gamb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447920" cy="123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asi Experi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groups of particip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= regular or non-regular gamb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38608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9680" y="1557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99680" y="342900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regular gamb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non-regular gamb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29m &amp; 1f play at least once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regular 15m &amp; 15f play once month or 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eer S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ed via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300720" y="3429000"/>
            <a:ext cx="238608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617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300"/>
            </a:br>
            <a:r>
              <a:rPr b="0" lang="en-GB" sz="35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5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987640" y="3501720"/>
            <a:ext cx="590400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‘subjective’ D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89d00"/>
                </a:solidFill>
                <a:latin typeface="Arial"/>
              </a:rPr>
              <a:t>Cognitiv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d by ‘thinking alou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) </a:t>
            </a:r>
            <a:r>
              <a:rPr b="1" lang="en-US" sz="2400" spc="-1" strike="noStrike">
                <a:solidFill>
                  <a:srgbClr val="e89d00"/>
                </a:solidFill>
                <a:latin typeface="Arial"/>
              </a:rPr>
              <a:t>Perception of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d by post - experiment semi structured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69720" y="4876920"/>
            <a:ext cx="2133720" cy="1670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6920" y="3286080"/>
            <a:ext cx="1981440" cy="1655640"/>
          </a:xfrm>
          <a:prstGeom prst="cloudCallout">
            <a:avLst>
              <a:gd name="adj1" fmla="val -19388"/>
              <a:gd name="adj2" fmla="val 101388"/>
            </a:avLst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 won because I was qui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207792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6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85120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178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‘objective’ (behavioural) DV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otal number of play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otal minutes of pla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otal plays per minut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nd stak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total winn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Total number of win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n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Win rate (time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– time between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Win rate (plays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number of plays between win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2210040" cy="187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9680" y="214920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6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The role of cognitive bias and skill in </a:t>
            </a:r>
            <a:br>
              <a:rPr sz="28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fruit machine gambling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680" y="3035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Arcade each participant given £3 to gamble on machine that gave 30 free gamb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Objectiv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y on machine for 60 gamb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break even &amp; win back the £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f they achieved 60 gambles they could choose to keep the ££ or carry on gamb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77080" y="1628640"/>
            <a:ext cx="838080" cy="830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308720" y="2060640"/>
            <a:ext cx="838440" cy="83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956720" y="2492280"/>
            <a:ext cx="838080" cy="830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40004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900"/>
            </a:br>
            <a:r>
              <a:rPr b="0" lang="en-GB" sz="31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7240" y="2906640"/>
            <a:ext cx="876276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r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cipants played same mach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FruitSkil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ly assigned to thinking aloud / non-thinking a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recordings transcrib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in 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5300640"/>
            <a:ext cx="5977080" cy="1368360"/>
          </a:xfrm>
          <a:prstGeom prst="wedgeRoundRectCallout">
            <a:avLst>
              <a:gd name="adj1" fmla="val -66282"/>
              <a:gd name="adj2" fmla="val -56032"/>
              <a:gd name="adj3" fmla="val 16667"/>
            </a:avLst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y everything that goes through your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censor your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talking continu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have to speak in complet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6360" y="6729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956720" y="2781360"/>
            <a:ext cx="968040" cy="1284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5084640"/>
            <a:ext cx="1332000" cy="159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100"/>
            </a:br>
            <a:r>
              <a:rPr b="0" lang="en-GB" sz="31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100" spc="-1" strike="noStrike">
              <a:solidFill>
                <a:srgbClr val="e89d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0920" y="2997360"/>
            <a:ext cx="8591040" cy="3673440"/>
            <a:chOff x="250920" y="2997360"/>
            <a:chExt cx="8591040" cy="3673440"/>
          </a:xfrm>
        </p:grpSpPr>
        <p:grpSp>
          <p:nvGrpSpPr>
            <p:cNvPr id="158" name=""/>
            <p:cNvGrpSpPr/>
            <p:nvPr/>
          </p:nvGrpSpPr>
          <p:grpSpPr>
            <a:xfrm>
              <a:off x="257760" y="2999520"/>
              <a:ext cx="8576280" cy="3668400"/>
              <a:chOff x="257760" y="2999520"/>
              <a:chExt cx="8576280" cy="366840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57760" y="2999520"/>
                <a:ext cx="2219400" cy="1089000"/>
                <a:chOff x="257760" y="2999520"/>
                <a:chExt cx="2219400" cy="108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8200" y="2999520"/>
                  <a:ext cx="2018520" cy="10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ehavioura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NDINGS: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7760" y="2999520"/>
                  <a:ext cx="2219400" cy="108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477520" y="2999520"/>
                <a:ext cx="1546560" cy="1089000"/>
                <a:chOff x="2477520" y="2999520"/>
                <a:chExt cx="1546560" cy="108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577960" y="2999520"/>
                  <a:ext cx="1345680" cy="10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 Regula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T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77520" y="2999520"/>
                  <a:ext cx="1546560" cy="108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024800" y="2999520"/>
                <a:ext cx="1605240" cy="1089000"/>
                <a:chOff x="4024800" y="2999520"/>
                <a:chExt cx="1605240" cy="1089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4125240" y="3000960"/>
                  <a:ext cx="1403640" cy="1013400"/>
                  <a:chOff x="4125240" y="3000960"/>
                  <a:chExt cx="1403640" cy="10134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4125240" y="3000960"/>
                    <a:ext cx="1403640" cy="100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Regular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125240" y="3480480"/>
                    <a:ext cx="1403640" cy="53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 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NT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4024800" y="2999520"/>
                  <a:ext cx="1605240" cy="108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630400" y="2999520"/>
                <a:ext cx="1656000" cy="1089000"/>
                <a:chOff x="5630400" y="2999520"/>
                <a:chExt cx="1656000" cy="1089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730840" y="2999520"/>
                  <a:ext cx="1455120" cy="10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ular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630400" y="2999520"/>
                  <a:ext cx="1656000" cy="108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7287120" y="2999520"/>
                <a:ext cx="1546920" cy="1089000"/>
                <a:chOff x="7287120" y="2999520"/>
                <a:chExt cx="1546920" cy="1089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387560" y="2999520"/>
                  <a:ext cx="1345680" cy="10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gula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    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287120" y="2999520"/>
                  <a:ext cx="1546920" cy="108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57760" y="4088520"/>
                <a:ext cx="2219400" cy="354960"/>
                <a:chOff x="257760" y="4088520"/>
                <a:chExt cx="2219400" cy="3549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58200" y="4088520"/>
                  <a:ext cx="2018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tal Pla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57760" y="4088520"/>
                  <a:ext cx="22194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477520" y="4088520"/>
                <a:ext cx="1546560" cy="354960"/>
                <a:chOff x="2477520" y="4088520"/>
                <a:chExt cx="1546560" cy="354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577960" y="408852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7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77520" y="4088520"/>
                  <a:ext cx="154656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024800" y="4088520"/>
                <a:ext cx="1605240" cy="354960"/>
                <a:chOff x="4024800" y="4088520"/>
                <a:chExt cx="1605240" cy="354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125240" y="4088520"/>
                  <a:ext cx="140400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6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024800" y="4088520"/>
                  <a:ext cx="160524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30400" y="4088520"/>
                <a:ext cx="1656000" cy="354960"/>
                <a:chOff x="5630400" y="4088520"/>
                <a:chExt cx="1656000" cy="354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730840" y="4088520"/>
                  <a:ext cx="14551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5.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630400" y="4088520"/>
                  <a:ext cx="16560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120" y="4088520"/>
                <a:ext cx="1546920" cy="354960"/>
                <a:chOff x="7287120" y="4088520"/>
                <a:chExt cx="1546920" cy="354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387560" y="408852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5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120" y="4088520"/>
                  <a:ext cx="154692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57760" y="4443840"/>
                <a:ext cx="2219400" cy="354960"/>
                <a:chOff x="257760" y="4443840"/>
                <a:chExt cx="2219400" cy="354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8200" y="4443840"/>
                  <a:ext cx="2018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otal Ti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57760" y="4443840"/>
                  <a:ext cx="22194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477520" y="4443840"/>
                <a:ext cx="1546560" cy="354960"/>
                <a:chOff x="2477520" y="4443840"/>
                <a:chExt cx="1546560" cy="354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577960" y="444384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477520" y="4443840"/>
                  <a:ext cx="154656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024800" y="4443840"/>
                <a:ext cx="1605240" cy="354960"/>
                <a:chOff x="4024800" y="4443840"/>
                <a:chExt cx="1605240" cy="354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125240" y="4443840"/>
                  <a:ext cx="140400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024800" y="4443840"/>
                  <a:ext cx="160524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630400" y="4443840"/>
                <a:ext cx="1656000" cy="354960"/>
                <a:chOff x="5630400" y="4443840"/>
                <a:chExt cx="1656000" cy="354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30840" y="4443840"/>
                  <a:ext cx="14551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1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630400" y="4443840"/>
                  <a:ext cx="16560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287120" y="4443840"/>
                <a:ext cx="1546920" cy="354960"/>
                <a:chOff x="7287120" y="4443840"/>
                <a:chExt cx="1546920" cy="354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387560" y="444384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9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287120" y="4443840"/>
                  <a:ext cx="154692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57760" y="4799160"/>
                <a:ext cx="2219400" cy="354960"/>
                <a:chOff x="257760" y="4799160"/>
                <a:chExt cx="2219400" cy="354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58200" y="4799160"/>
                  <a:ext cx="2018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lay Rate **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57760" y="4799160"/>
                  <a:ext cx="22194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477520" y="4799160"/>
                <a:ext cx="1546560" cy="354960"/>
                <a:chOff x="2477520" y="4799160"/>
                <a:chExt cx="1546560" cy="354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577960" y="479916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477520" y="4799160"/>
                  <a:ext cx="154656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024800" y="4799160"/>
                <a:ext cx="1605240" cy="354960"/>
                <a:chOff x="4024800" y="4799160"/>
                <a:chExt cx="1605240" cy="354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125240" y="4799160"/>
                  <a:ext cx="140400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024800" y="4799160"/>
                  <a:ext cx="160524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630400" y="4799160"/>
                <a:ext cx="1656000" cy="354960"/>
                <a:chOff x="5630400" y="4799160"/>
                <a:chExt cx="1656000" cy="354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730840" y="4799160"/>
                  <a:ext cx="14551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30400" y="4799160"/>
                  <a:ext cx="16560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287120" y="4799160"/>
                <a:ext cx="1546920" cy="354960"/>
                <a:chOff x="7287120" y="4799160"/>
                <a:chExt cx="1546920" cy="354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387560" y="479916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87120" y="4799160"/>
                  <a:ext cx="154692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57760" y="5154480"/>
                <a:ext cx="2219400" cy="355320"/>
                <a:chOff x="257760" y="5154480"/>
                <a:chExt cx="2219400" cy="3553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58200" y="5154480"/>
                  <a:ext cx="20185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d Stak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57760" y="5154480"/>
                  <a:ext cx="221940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477520" y="5154480"/>
                <a:ext cx="1546560" cy="355320"/>
                <a:chOff x="2477520" y="5154480"/>
                <a:chExt cx="1546560" cy="355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577960" y="5154480"/>
                  <a:ext cx="134568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77520" y="5154480"/>
                  <a:ext cx="154656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024800" y="5154480"/>
                <a:ext cx="1605240" cy="355320"/>
                <a:chOff x="4024800" y="5154480"/>
                <a:chExt cx="1605240" cy="3553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125240" y="5154480"/>
                  <a:ext cx="140400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24800" y="5154480"/>
                  <a:ext cx="160524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630400" y="5154480"/>
                <a:ext cx="1656000" cy="355320"/>
                <a:chOff x="5630400" y="5154480"/>
                <a:chExt cx="1656000" cy="3553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730840" y="5154480"/>
                  <a:ext cx="145512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630400" y="5154480"/>
                  <a:ext cx="165600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287120" y="5154480"/>
                <a:ext cx="1546920" cy="355320"/>
                <a:chOff x="7287120" y="5154480"/>
                <a:chExt cx="1546920" cy="355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387560" y="5154480"/>
                  <a:ext cx="1345680" cy="35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3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287120" y="5154480"/>
                  <a:ext cx="1546920" cy="35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57760" y="5509800"/>
                <a:ext cx="2219400" cy="354960"/>
                <a:chOff x="257760" y="5509800"/>
                <a:chExt cx="2219400" cy="354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58200" y="5509800"/>
                  <a:ext cx="2018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7760" y="5509800"/>
                  <a:ext cx="22194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477520" y="5509800"/>
                <a:ext cx="1546560" cy="354960"/>
                <a:chOff x="2477520" y="5509800"/>
                <a:chExt cx="1546560" cy="354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77960" y="550980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477520" y="5509800"/>
                  <a:ext cx="154656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024800" y="5509800"/>
                <a:ext cx="1605240" cy="354960"/>
                <a:chOff x="4024800" y="5509800"/>
                <a:chExt cx="1605240" cy="354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125240" y="5509800"/>
                  <a:ext cx="140400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024800" y="5509800"/>
                  <a:ext cx="160524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630400" y="5509800"/>
                <a:ext cx="1656000" cy="354960"/>
                <a:chOff x="5630400" y="5509800"/>
                <a:chExt cx="1656000" cy="354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730840" y="5509800"/>
                  <a:ext cx="14551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0400" y="5509800"/>
                  <a:ext cx="16560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287120" y="5509800"/>
                <a:ext cx="1546920" cy="354960"/>
                <a:chOff x="7287120" y="5509800"/>
                <a:chExt cx="1546920" cy="354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387560" y="550980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87120" y="5509800"/>
                  <a:ext cx="154692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57760" y="5865120"/>
                <a:ext cx="2219400" cy="354960"/>
                <a:chOff x="257760" y="5865120"/>
                <a:chExt cx="2219400" cy="354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58200" y="5865120"/>
                  <a:ext cx="20185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n rate - time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57760" y="5865120"/>
                  <a:ext cx="22194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477520" y="5865120"/>
                <a:ext cx="1546560" cy="354960"/>
                <a:chOff x="2477520" y="5865120"/>
                <a:chExt cx="1546560" cy="354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77960" y="586512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477520" y="5865120"/>
                  <a:ext cx="154656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024800" y="5865120"/>
                <a:ext cx="1605240" cy="354960"/>
                <a:chOff x="4024800" y="5865120"/>
                <a:chExt cx="1605240" cy="354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125240" y="5865120"/>
                  <a:ext cx="140400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024800" y="5865120"/>
                  <a:ext cx="160524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630400" y="5865120"/>
                <a:ext cx="1656000" cy="354960"/>
                <a:chOff x="5630400" y="5865120"/>
                <a:chExt cx="1656000" cy="354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730840" y="5865120"/>
                  <a:ext cx="145512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630400" y="5865120"/>
                  <a:ext cx="165600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287120" y="5865120"/>
                <a:ext cx="1546920" cy="354960"/>
                <a:chOff x="7287120" y="5865120"/>
                <a:chExt cx="1546920" cy="354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387560" y="5865120"/>
                  <a:ext cx="1345680" cy="35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287120" y="5865120"/>
                  <a:ext cx="1546920" cy="35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57760" y="6220440"/>
                <a:ext cx="2219400" cy="447480"/>
                <a:chOff x="257760" y="6220440"/>
                <a:chExt cx="2219400" cy="447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58200" y="6220440"/>
                  <a:ext cx="2018520" cy="44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Win rate plays **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57760" y="6220440"/>
                  <a:ext cx="2219400" cy="44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477520" y="6220440"/>
                <a:ext cx="1546560" cy="447480"/>
                <a:chOff x="2477520" y="6220440"/>
                <a:chExt cx="1546560" cy="447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77960" y="6220440"/>
                  <a:ext cx="1345680" cy="44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2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477520" y="6220440"/>
                  <a:ext cx="1546560" cy="44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024800" y="6220440"/>
                <a:ext cx="1605240" cy="447480"/>
                <a:chOff x="4024800" y="6220440"/>
                <a:chExt cx="1605240" cy="447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125240" y="6220440"/>
                  <a:ext cx="1404000" cy="44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024800" y="6220440"/>
                  <a:ext cx="1605240" cy="44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630400" y="6220440"/>
                <a:ext cx="1656000" cy="447480"/>
                <a:chOff x="5630400" y="6220440"/>
                <a:chExt cx="1656000" cy="447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730840" y="6220440"/>
                  <a:ext cx="1455120" cy="44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8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630400" y="6220440"/>
                  <a:ext cx="1656000" cy="44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287120" y="6220440"/>
                <a:ext cx="1546920" cy="447480"/>
                <a:chOff x="7287120" y="6220440"/>
                <a:chExt cx="1546920" cy="447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87560" y="6220440"/>
                  <a:ext cx="1345680" cy="44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4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287120" y="6220440"/>
                  <a:ext cx="1546920" cy="44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250920" y="2997360"/>
              <a:ext cx="8591040" cy="3673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9810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200"/>
            </a:br>
            <a:r>
              <a:rPr b="0" lang="en-GB" sz="25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25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99680" y="2851200"/>
            <a:ext cx="8134200" cy="363384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538200" y="2852640"/>
            <a:ext cx="8065800" cy="3889440"/>
            <a:chOff x="538200" y="2852640"/>
            <a:chExt cx="8065800" cy="3889440"/>
          </a:xfrm>
        </p:grpSpPr>
        <p:grpSp>
          <p:nvGrpSpPr>
            <p:cNvPr id="285" name=""/>
            <p:cNvGrpSpPr/>
            <p:nvPr/>
          </p:nvGrpSpPr>
          <p:grpSpPr>
            <a:xfrm>
              <a:off x="545040" y="2855160"/>
              <a:ext cx="8051040" cy="3884040"/>
              <a:chOff x="545040" y="2855160"/>
              <a:chExt cx="8051040" cy="38840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545040" y="2855160"/>
                <a:ext cx="4354200" cy="1178280"/>
                <a:chOff x="545040" y="2855160"/>
                <a:chExt cx="4354200" cy="1178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48360" y="2855160"/>
                  <a:ext cx="4147920" cy="117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tent Analysi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xamples of FINDINGS: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DV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45040" y="2855160"/>
                  <a:ext cx="4354200" cy="117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899600" y="2855160"/>
                <a:ext cx="1934280" cy="1178280"/>
                <a:chOff x="4899600" y="2855160"/>
                <a:chExt cx="1934280" cy="1178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002920" y="2855160"/>
                  <a:ext cx="1728000" cy="117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on Regular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899600" y="2855160"/>
                  <a:ext cx="1934280" cy="117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834240" y="2855160"/>
                <a:ext cx="1761840" cy="1752480"/>
                <a:chOff x="6834240" y="2855160"/>
                <a:chExt cx="1761840" cy="175248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6937560" y="2855160"/>
                  <a:ext cx="1555200" cy="1752480"/>
                  <a:chOff x="6937560" y="2855160"/>
                  <a:chExt cx="1555200" cy="17524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6937560" y="2855160"/>
                    <a:ext cx="155520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Regular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937560" y="3372480"/>
                    <a:ext cx="155520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"/>
                <p:cNvSpPr/>
                <p:nvPr/>
              </p:nvSpPr>
              <p:spPr>
                <a:xfrm>
                  <a:off x="6834240" y="2855160"/>
                  <a:ext cx="1761840" cy="117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45040" y="4033440"/>
                <a:ext cx="4354200" cy="551160"/>
                <a:chOff x="545040" y="4033440"/>
                <a:chExt cx="4354200" cy="551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48360" y="4033440"/>
                  <a:ext cx="4147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achine personification **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45040" y="4033440"/>
                  <a:ext cx="435420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4899600" y="4033440"/>
                <a:ext cx="1934280" cy="551160"/>
                <a:chOff x="4899600" y="4033440"/>
                <a:chExt cx="1934280" cy="551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002920" y="4033440"/>
                  <a:ext cx="1728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1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899600" y="4033440"/>
                  <a:ext cx="193428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834240" y="4033440"/>
                <a:ext cx="1761840" cy="551160"/>
                <a:chOff x="6834240" y="4033440"/>
                <a:chExt cx="1761840" cy="551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937560" y="4033440"/>
                  <a:ext cx="15555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7.54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834240" y="4033440"/>
                  <a:ext cx="176184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45040" y="4584600"/>
                <a:ext cx="4354200" cy="400680"/>
                <a:chOff x="545040" y="4584600"/>
                <a:chExt cx="4354200" cy="400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48360" y="4584600"/>
                  <a:ext cx="41479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xplaining loss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5040" y="4584600"/>
                  <a:ext cx="435420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899600" y="4584600"/>
                <a:ext cx="1934280" cy="400680"/>
                <a:chOff x="4899600" y="4584600"/>
                <a:chExt cx="1934280" cy="400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02920" y="4584600"/>
                  <a:ext cx="1728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4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899600" y="4584600"/>
                  <a:ext cx="19342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834240" y="4584600"/>
                <a:ext cx="1761840" cy="400680"/>
                <a:chOff x="6834240" y="4584600"/>
                <a:chExt cx="1761840" cy="400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937560" y="4584600"/>
                  <a:ext cx="15555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1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34240" y="4584600"/>
                  <a:ext cx="17618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45040" y="4985640"/>
                <a:ext cx="4354200" cy="400680"/>
                <a:chOff x="545040" y="4985640"/>
                <a:chExt cx="4354200" cy="4006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48360" y="4985640"/>
                  <a:ext cx="41479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alk to the machin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5040" y="4985640"/>
                  <a:ext cx="435420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899600" y="4985640"/>
                <a:ext cx="1934280" cy="400680"/>
                <a:chOff x="4899600" y="4985640"/>
                <a:chExt cx="1934280" cy="4006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002920" y="4985640"/>
                  <a:ext cx="1728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9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899600" y="4985640"/>
                  <a:ext cx="19342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834240" y="4985640"/>
                <a:ext cx="1761840" cy="400680"/>
                <a:chOff x="6834240" y="4985640"/>
                <a:chExt cx="1761840" cy="4006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937560" y="4985640"/>
                  <a:ext cx="15555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6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34240" y="4985640"/>
                  <a:ext cx="17618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45040" y="5386680"/>
                <a:ext cx="4354200" cy="400680"/>
                <a:chOff x="545040" y="5386680"/>
                <a:chExt cx="4354200" cy="400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48360" y="5386680"/>
                  <a:ext cx="41479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wear at machin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5040" y="5386680"/>
                  <a:ext cx="435420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899600" y="5386680"/>
                <a:ext cx="1934280" cy="400680"/>
                <a:chOff x="4899600" y="5386680"/>
                <a:chExt cx="1934280" cy="4006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02920" y="5386680"/>
                  <a:ext cx="1728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08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899600" y="5386680"/>
                  <a:ext cx="19342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834240" y="5386680"/>
                <a:ext cx="1761840" cy="400680"/>
                <a:chOff x="6834240" y="5386680"/>
                <a:chExt cx="1761840" cy="400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937560" y="5386680"/>
                  <a:ext cx="15555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0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834240" y="5386680"/>
                  <a:ext cx="17618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45040" y="5787360"/>
                <a:ext cx="4354200" cy="400680"/>
                <a:chOff x="545040" y="5787360"/>
                <a:chExt cx="4354200" cy="4006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48360" y="5787360"/>
                  <a:ext cx="41479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Reference to skill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5040" y="5787360"/>
                  <a:ext cx="435420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899600" y="5787360"/>
                <a:ext cx="1934280" cy="400680"/>
                <a:chOff x="4899600" y="5787360"/>
                <a:chExt cx="1934280" cy="4006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02920" y="5787360"/>
                  <a:ext cx="17280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4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899600" y="5787360"/>
                  <a:ext cx="19342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834240" y="5787360"/>
                <a:ext cx="1761840" cy="400680"/>
                <a:chOff x="6834240" y="5787360"/>
                <a:chExt cx="1761840" cy="400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937560" y="5787360"/>
                  <a:ext cx="155556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3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34240" y="5787360"/>
                  <a:ext cx="17618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45040" y="6188040"/>
                <a:ext cx="4354200" cy="551160"/>
                <a:chOff x="545040" y="6188040"/>
                <a:chExt cx="4354200" cy="5511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8360" y="6188040"/>
                  <a:ext cx="4147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Verbalising confusion ***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45040" y="6188040"/>
                  <a:ext cx="435420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899600" y="6188040"/>
                <a:ext cx="1934280" cy="551160"/>
                <a:chOff x="4899600" y="6188040"/>
                <a:chExt cx="1934280" cy="5511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02920" y="6188040"/>
                  <a:ext cx="1728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8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99600" y="6188040"/>
                  <a:ext cx="193428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834240" y="6188040"/>
                <a:ext cx="1761840" cy="551160"/>
                <a:chOff x="6834240" y="6188040"/>
                <a:chExt cx="1761840" cy="551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937560" y="6188040"/>
                  <a:ext cx="15555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7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34240" y="6188040"/>
                  <a:ext cx="1761840" cy="55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1" name=""/>
            <p:cNvSpPr/>
            <p:nvPr/>
          </p:nvSpPr>
          <p:spPr>
            <a:xfrm>
              <a:off x="538200" y="2852640"/>
              <a:ext cx="8065800" cy="3889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9680" y="20048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200"/>
            </a:br>
            <a:r>
              <a:rPr b="0" lang="en-GB" sz="2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2400" spc="-1" strike="noStrike">
              <a:solidFill>
                <a:srgbClr val="e89d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3068640"/>
          <a:ext cx="8134200" cy="3416400"/>
        </p:xfrm>
        <a:graphic>
          <a:graphicData uri="http://schemas.openxmlformats.org/drawingml/2006/table">
            <a:tbl>
              <a:tblPr/>
              <a:tblGrid>
                <a:gridCol w="4203720"/>
                <a:gridCol w="1846440"/>
                <a:gridCol w="208404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there any skill involved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ul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 regul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ly Ch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al chance / skill 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ing when machine will pay ou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161748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6237360"/>
            <a:ext cx="85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is this ‘thought’ irrational?  Is the gambler righ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3662280"/>
          <a:ext cx="2971800" cy="194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662280"/>
                    <a:ext cx="2971800" cy="19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978280" y="3357720"/>
            <a:ext cx="5410080" cy="2895480"/>
          </a:xfrm>
          <a:prstGeom prst="cloudCallout">
            <a:avLst>
              <a:gd name="adj1" fmla="val -68106"/>
              <a:gd name="adj2" fmla="val -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Cognitiv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f I have more ‘goes’ I have a better chance of wi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900"/>
            </a:br>
            <a:r>
              <a:rPr b="0" lang="en-GB" sz="31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100" spc="-1" strike="noStrike">
              <a:solidFill>
                <a:srgbClr val="e89d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95280" y="3357720"/>
          <a:ext cx="2057400" cy="111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357720"/>
                    <a:ext cx="205740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268360" y="3429000"/>
            <a:ext cx="6551640" cy="3124080"/>
          </a:xfrm>
          <a:prstGeom prst="wedgeEllipseCallout">
            <a:avLst>
              <a:gd name="adj1" fmla="val -59861"/>
              <a:gd name="adj2" fmla="val -35976"/>
            </a:avLst>
          </a:prstGeom>
          <a:solidFill>
            <a:srgbClr val="96969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rrational verb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‘fruity’ is not in a good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nts its money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ting only a quid in ‘bluffs the machine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chine … hates m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chine won’t pay out happ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22208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6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9680" y="3428640"/>
            <a:ext cx="8134200" cy="305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6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More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4 regular gamblers managed to ‘break even’ (60 gambles) - 10 stayed on machine until they lost all the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 non-regular gamblers broke even - 2 stayed on until lost all the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07792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600"/>
            </a:br>
            <a:r>
              <a:rPr b="0" lang="en-GB" sz="2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2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9680" y="303516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6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gamblers are more skilful (e.g. knowing  the reels &amp; when to nud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gamblers believe they are more skillful than they 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mblers know they will ‘lose’ but they play with money not for it (staying on is the obj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gamblers make more irrational verbalisations demonstrating cognitive b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70136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900"/>
            </a:br>
            <a:r>
              <a:rPr b="0" lang="en-GB" sz="31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68000" y="3295800"/>
            <a:ext cx="7543800" cy="35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useful to know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help to rehabilitate ‘gambling addicts’ because Cognitive Behavioural Therapy can be used to help ‘problem gamblers’ change the way they think (recognise and change their cognitive bias) and be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by playing back their irrational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7885080" y="4149720"/>
            <a:ext cx="968400" cy="128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9680" y="3324240"/>
            <a:ext cx="81342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6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valuative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++  both quantitative and qualitative D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validity – re: the ‘thinking aloud method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reliability of content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 biased sample (29 male regular gamblers) does this matter - why or why no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ecological validity (level of realis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?? generalisability to other ‘gambling’ e.g horse racing, dice, roulette – why or why no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5300640"/>
            <a:ext cx="7772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tional choice theory predicts that people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am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ory: Gamblers gamble because they make the wrong decisions ….  because of cognitive dist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32000" y="3603600"/>
          <a:ext cx="2590920" cy="16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3603600"/>
                    <a:ext cx="259092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9680" y="1484280"/>
            <a:ext cx="813420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000"/>
            </a:br>
            <a:r>
              <a:rPr b="0" lang="en-GB" sz="40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0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3284640"/>
            <a:ext cx="6553080" cy="3033720"/>
          </a:xfrm>
          <a:prstGeom prst="cloudCallout">
            <a:avLst>
              <a:gd name="adj1" fmla="val -58722"/>
              <a:gd name="adj2" fmla="val -27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gnitive B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The Illusion of Control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.g. If I choose which machine to play I am more likely to w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me as buying 2 lottery ticke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7280" y="3957480"/>
            <a:ext cx="1738440" cy="189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1725480"/>
            <a:ext cx="813420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8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11400" y="3506760"/>
            <a:ext cx="6781680" cy="3162240"/>
          </a:xfrm>
          <a:prstGeom prst="cloudCallout">
            <a:avLst>
              <a:gd name="adj1" fmla="val -58824"/>
              <a:gd name="adj2" fmla="val -39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ognitive B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Biased 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en I win it’s because I am skilled but when I lose its just ‘bad luc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880" y="3963960"/>
            <a:ext cx="2024280" cy="1833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9600" y="3657600"/>
            <a:ext cx="6494400" cy="3011400"/>
          </a:xfrm>
          <a:prstGeom prst="cloudCallout">
            <a:avLst>
              <a:gd name="adj1" fmla="val -65254"/>
              <a:gd name="adj2" fmla="val -38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gnitive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Faulty ‘Representativeness’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probability of winning increases in relation to the number of ‘goe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2200" y="4191120"/>
            <a:ext cx="1733400" cy="189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161748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33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3362400"/>
            <a:ext cx="6400800" cy="3235320"/>
          </a:xfrm>
          <a:prstGeom prst="cloudCallout">
            <a:avLst>
              <a:gd name="adj1" fmla="val -64435"/>
              <a:gd name="adj2" fmla="val -28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gnitive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8080"/>
                </a:solidFill>
                <a:uFillTx/>
                <a:latin typeface="Arial"/>
              </a:rPr>
              <a:t>Illusory Correlation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I throw the dice hard I a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re likely to get a ‘six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4162320"/>
            <a:ext cx="2023920" cy="2210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43640" y="357840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400"/>
            </a:br>
            <a:r>
              <a:rPr b="0" lang="en-GB" sz="44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r>
              <a:rPr b="0" lang="en-US" sz="4400" spc="-1" strike="noStrike">
                <a:solidFill>
                  <a:srgbClr val="e89d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666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7280" y="3730680"/>
          <a:ext cx="217836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3730680"/>
                    <a:ext cx="21783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635280" y="4133880"/>
            <a:ext cx="518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ble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is rational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516640"/>
            <a:ext cx="5105520" cy="863640"/>
          </a:xfrm>
          <a:prstGeom prst="borderCallout1">
            <a:avLst>
              <a:gd name="adj1" fmla="val -4231"/>
              <a:gd name="adj2" fmla="val -8894"/>
              <a:gd name="adj3" fmla="val 21116"/>
              <a:gd name="adj4" fmla="val -88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9d00"/>
                </a:solidFill>
                <a:latin typeface="Arial"/>
              </a:rPr>
              <a:t>That machine likes me</a:t>
            </a:r>
            <a:r>
              <a:rPr b="0" lang="en-US" sz="3200" spc="-1" strike="noStrike">
                <a:solidFill>
                  <a:srgbClr val="e89d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Griffiths (1994) </a:t>
            </a:r>
            <a:br>
              <a:rPr sz="4800"/>
            </a:br>
            <a:r>
              <a:rPr b="0" lang="en-GB" sz="4800" spc="-1" strike="noStrike">
                <a:solidFill>
                  <a:srgbClr val="e89d00"/>
                </a:solidFill>
                <a:latin typeface="Arial"/>
              </a:rPr>
              <a:t>The role of cognitive bias and skill in fruit machine gambling</a:t>
            </a:r>
            <a:endParaRPr b="0" lang="en-US" sz="48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earch Ques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o regular gamblers ‘think’ &amp; ‘behave’ differently to non-regular gambl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236000" y="3716280"/>
            <a:ext cx="1447560" cy="12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1:17:54Z</dcterms:created>
  <dc:creator>Corporate User</dc:creator>
  <dc:description/>
  <dc:language>en-US</dc:language>
  <cp:lastModifiedBy>Lior Erez</cp:lastModifiedBy>
  <dcterms:modified xsi:type="dcterms:W3CDTF">2010-05-10T10:25:43Z</dcterms:modified>
  <cp:revision>5</cp:revision>
  <dc:subject/>
  <dc:title>Griffiths (1994)  The role of cognitive bias and skill in fruit machine gambling</dc:title>
</cp:coreProperties>
</file>