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9000" indent="-189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-248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7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57880" indent="-178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45864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0812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9532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9800" y="1412640"/>
            <a:ext cx="8134560" cy="14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br>
              <a:rPr sz="4800"/>
            </a:br>
            <a:r>
              <a:rPr b="0" lang="en-US" sz="4800" spc="-1" strike="noStrike">
                <a:solidFill>
                  <a:srgbClr val="e89d00"/>
                </a:solidFill>
                <a:latin typeface="Arial"/>
              </a:rPr>
              <a:t>your amazing brain! </a:t>
            </a:r>
            <a:endParaRPr b="0" lang="en-US" sz="4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530680"/>
            <a:ext cx="7391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London Taxi               A sea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do these have to do with your br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47640" y="2492280"/>
            <a:ext cx="6610680" cy="3043440"/>
            <a:chOff x="1547640" y="2492280"/>
            <a:chExt cx="6610680" cy="30434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1547640" y="3597840"/>
              <a:ext cx="2860200" cy="18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4853160" y="3597840"/>
              <a:ext cx="2669760" cy="19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52280" y="2492280"/>
              <a:ext cx="2606040" cy="1160640"/>
            </a:xfrm>
            <a:prstGeom prst="wedgeEllipseCallout">
              <a:avLst>
                <a:gd name="adj1" fmla="val -23629"/>
                <a:gd name="adj2" fmla="val 70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reek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ippocamp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proced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I scans of brains of 16 taxi drivers and of 16 matched controls were analysed by VBM and compared to the data base of 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ontro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the expert conducting the analysis did not know whether MRI scan was taxi driver brain or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Findings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creased volume of grey matter in both the right &amp; left hippocampi in taxi driver br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700280"/>
            <a:ext cx="4910040" cy="4929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651640" y="2575440"/>
            <a:ext cx="2981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Findings (2): Correlation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ariable 1: length of time as taxi d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ariable 2: Right posteria hippocamp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volume of right posteria hippocampus increased as length of time as taxi driver incre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274788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ndings (2): Correlation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6529320" cy="33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Findings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axi drivers had greater volume in the posteria hippocampus but non taxi drivers had greater volume in the anterior hippocamp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ca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redistribution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of grey matter in hippocamp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at the structure of the brain changes in response to environmental dem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at the mental map of the city of London is stored in the posteria hippocam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s this usefu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vidence that normal activity can ind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nges in the structure of the brain, and in 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olume of grey matter, has many im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rehabilitation after brain in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4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br>
              <a:rPr sz="4400"/>
            </a:b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Ecological Validity?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33242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the way the experi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58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easures the DV (brain structur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58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the experimental sett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58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d the sample of participa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listic in a real life sett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iscuss: why or 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9680" y="141264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Types of data</a:t>
            </a:r>
            <a:br>
              <a:rPr sz="4000"/>
            </a:b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Discuss: strengths &amp; limitations 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680" y="317988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Quantita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matters of fact objective, scientific &amp; replicable, useful for analysis &amp; comparis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Qualita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matters of opinion, subjective, rich in detail, can be hard to analyse, may be misinterpr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980640"/>
            <a:ext cx="81756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br>
              <a:rPr sz="4800"/>
            </a:br>
            <a:r>
              <a:rPr b="0" lang="en-US" sz="4800" spc="-1" strike="noStrike">
                <a:solidFill>
                  <a:srgbClr val="e89d00"/>
                </a:solidFill>
                <a:latin typeface="Arial"/>
              </a:rPr>
              <a:t>your amazing brain! </a:t>
            </a:r>
            <a:endParaRPr b="0" lang="en-US" sz="4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4880" y="308196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vigation related structural change in the Hippocampi of London taxi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754800"/>
            <a:ext cx="8001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esting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structure of your brain change in response to environmental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645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The experimental methodology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9680" y="314172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as the method appropriate for the ai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e the experimental conditions realistic? (mundane realism = real world realis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as the DV operationalised and was this a valid measure of the behaviour being studied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experimental procedure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9680" y="317988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ere the participants allocated to the conditions and were controls used to remove ‘extra variables’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re there any cues that might have generated demand characteristics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Reliabilit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Could the study be replicated to find the same results?  Why or 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br>
              <a:rPr sz="4400"/>
            </a:b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The sample 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3323880"/>
            <a:ext cx="81342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258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ho were the particip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58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as the sample biased in any wa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58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as the sample large enough to mask the effect of individual differenc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58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o which population can we safely generalise the finding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95240" y="2511360"/>
            <a:ext cx="2316240" cy="2266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700360" y="4357800"/>
            <a:ext cx="2768400" cy="2311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157560" y="2282760"/>
            <a:ext cx="2685960" cy="202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84720" y="2268360"/>
            <a:ext cx="2590920" cy="3865680"/>
          </a:xfrm>
          <a:prstGeom prst="cloudCallout">
            <a:avLst>
              <a:gd name="adj1" fmla="val -70833"/>
              <a:gd name="adj2" fmla="val 226"/>
            </a:avLst>
          </a:prstGeom>
          <a:solidFill>
            <a:srgbClr val="ff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ychology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i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x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 ho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o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esting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13456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br>
              <a:rPr sz="4800"/>
            </a:b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your amazing brain!</a:t>
            </a:r>
            <a:r>
              <a:rPr b="0" lang="en-US" sz="48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3068280"/>
            <a:ext cx="8135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in the brain is the hippocamp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5942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3718080"/>
            <a:ext cx="3162240" cy="309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3280" y="3785760"/>
            <a:ext cx="3581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es the hippocampu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 of the hippocampus is to facilitate spatial memory (navig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13456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your amazing brain!</a:t>
            </a: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1280" y="292428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in the brain is the hippocamp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5942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4360" y="3578400"/>
            <a:ext cx="3305160" cy="323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3280" y="3864240"/>
            <a:ext cx="3942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 hippocamp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ch hemisphere of the brain has a hippo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ppocampi means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134200" cy="14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br>
              <a:rPr sz="4800"/>
            </a:b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your amazing brain!</a:t>
            </a:r>
            <a:endParaRPr b="0" lang="en-US" sz="4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000" y="32385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arch 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changes in the brain be detected in those with extensive navigation experience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 hippocampi in London taxi drivers will be structurally different to the hippocampi in non-taxi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112760"/>
            <a:ext cx="813420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your amazing brain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41080" y="417528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don taxi Drivers  ‘On the knowledg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two years to train to become a London Taxi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memorise thousands of ro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d by police before a license iss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89000" y="299736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17800" y="299736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494320" y="299736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246800" y="2997360"/>
            <a:ext cx="1428840" cy="1076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Method: Natural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 groups of participants (their br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ndon Taxi driver bra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 taxi driver b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V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ucture &amp; volume of hippocam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101600" indent="-20628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rison of analysis of MRI sc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Particip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 right handed, male, taxi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erage age 44, all licensed more than 18 months, average time as taxi driver 14.3 y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6 right handed, male, age matched, non taxi driv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Maguire et al (2000)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as it don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proced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RI scans of brains of 50 healthy, right handed, male, non taxi drivers aged 33 - 61 were analysed to establish a comparison data base of ‘average hippocampi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alysis by Voxel Based Morphometry (VB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08:02Z</dcterms:created>
  <dc:creator>Corporate User</dc:creator>
  <dc:description/>
  <dc:language>en-US</dc:language>
  <cp:lastModifiedBy>Lior Erez</cp:lastModifiedBy>
  <dcterms:modified xsi:type="dcterms:W3CDTF">2010-05-10T11:01:45Z</dcterms:modified>
  <cp:revision>5</cp:revision>
  <dc:subject/>
  <dc:title>Slide 1</dc:title>
</cp:coreProperties>
</file>