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LASER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7.jpeg" ContentType="image/jpeg"/>
  <Override PartName="/ppt/media/image11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EE5-22E9-42B0-B535-5330FD21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-18576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541600" indent="-20628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AS Psychology</a:t>
            </a:r>
            <a:br>
              <a:rPr sz="5100"/>
            </a:b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dividual Differences approach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&amp; Psychodynamic perspectiv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Freud’s psychodynamic theory of  personality   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ripartite structure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pereg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266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 personality dis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gpen &amp; Cleckle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is 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cord of a therapeutic pro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ere Thigpen &amp; Cleckle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were psychiatrists (medically qualifi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ir paper was published in the Journal of abnormal &amp; social psycholog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a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25 year old woman who was referred because of h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re &amp; blinding headach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spells of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mnes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gpen &amp; Cleckley tested her with Psychometric tests, projective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 the initial interviews (Eve Whit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 complained of (symptom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inding Heada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rital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 probl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was Eve White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excell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ervative, shy, dutifu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ving wife and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showed amnesia for a recent trip and w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order to restore her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16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15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1155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irst sign of something odd!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etter arrived which was written in two kinds of handwrit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861920"/>
            <a:ext cx="810432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499920"/>
            <a:ext cx="813420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tt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objective evide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23079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ite a definition of wha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ink personality means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did Eve say about the let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denied writing it, though she did say she ha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gun a letter which she had not finis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ecame distressed and asked “whether hearing voices in her head meant she was insane”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said that she had hear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 voice in her hea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peaking to 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s was a critical int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veral times she put her han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her head as if in pa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nd then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61080" y="2997360"/>
            <a:ext cx="13161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131616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093080" y="4579920"/>
            <a:ext cx="1315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changed and became Eve Black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st ‘alter-eg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56000" y="4221000"/>
            <a:ext cx="847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56360" y="4654440"/>
            <a:ext cx="1028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C -0.00763 0.00971 -0.01666 0.02035 -0.02065 0.03376 C -0.02465 0.04833 -0.02673 0.06568 -0.02864 0.08302 C -0.03072 0.10037 -0.02864 0.11494 -0.02673 0.13089 C -0.02465 0.1457 -0.0217 0.16165 -0.01458 0.17483 C -0.00868 0.18825 0.00139 0.19889 0.01233 0.20698 C 0.0224 0.21484 0.03438 0.22016 0.04636 0.22294 C 0.05834 0.22548 0.07032 0.22548 0.08143 0.22294 C 0.09341 0.22016 0.10435 0.21346 0.11337 0.20282 C 0.1224 0.19357 0.13039 0.18154 0.13438 0.16697 C 0.13941 0.15356 0.14132 0.13506 0.14132 0.12026 C 0.14237 0.10569 0.14132 0.08834 0.13629 0.07377 C 0.13143 0.06036 0.1224 0.04972 0.11042 0.0444 C 0.09827 0.04047 0.08629 0.04579 0.0783 0.05504 C 0.07136 0.06429 0.06632 0.07909 0.06528 0.0962 C 0.06528 0.11355 0.06632 0.12951 0.07136 0.14292 C 0.07639 0.15633 0.07535 0.15888 0.09532 0.17622 C 0.11337 0.19496 0.13143 0.18964 0.14237 0.19079 C 0.1533 0.19079 0.16233 0.18547 0.17327 0.18015 C 0.18542 0.17368 0.19532 0.16165 0.20244 0.15101 C 0.20938 0.14038 0.21233 0.12696 0.21632 0.10569 C 0.21928 0.08441 0.21928 0.07377 0.21928 0.05758 C 0.21928 0.04162 0.21928 0.02567 0.21928 0.00971 E">
                                      <p:cBhvr>
                                        <p:cTn id="22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The therapist not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A quick reckless smile…”</a:t>
            </a: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hi doc</a:t>
            </a: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Eve White now displayed a childishly daredevil air, an erotic glance, even her sitting posture chang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Eve White became Eve Black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What was Eve Black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0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po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ish, extrovert, mischievo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ied being a wife &amp;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therapy lasted 14 months and 100 hours of intervie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ould sometimes ‘appear’ but could only b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alled ou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der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s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as not awa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as aware of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ha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xist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ince childho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- “would emerge, would behave badly and then retreat and let Eve White take the blame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parents verified incid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T &amp; C described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ish, irresponsible &amp; shal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eking pleasure &amp; excit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marriage to EW’s husband (whom she despis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relationship with EW’s daugh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 her family not notice anything od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they observed EB they put her harshness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gression down to ‘occasional temper tantrums 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normally gentle woma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a hypothetical construc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never observe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only infer personality from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tests (psychometric te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rschach ink blot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= rep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B = reg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ctroencephalograms (EEG) to record brain activit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99556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orschach ink blot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3600720" cy="270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27640" y="3500280"/>
            <a:ext cx="4321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do you s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what you see a projection of your unconscious m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this a quantitative or qualitative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matic Apperception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429000"/>
            <a:ext cx="4319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Write a storyline for the p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has been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your story a projection of your unconscious fears/desi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8191" t="0" r="8370" b="0"/>
          <a:stretch/>
        </p:blipFill>
        <p:spPr>
          <a:xfrm>
            <a:off x="336600" y="3213000"/>
            <a:ext cx="36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s treatment progressed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headaches recurred &amp; got wor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lackouts increa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th EW &amp; EW denied awareness in these 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state of mind deteriorated (confinement was consider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personality appears!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 Third Persona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lled hersel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had full awareness of EW and EB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ither EW nor EB were aware of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higpen &amp; Cleckley do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ies were tested by electroencephalo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lear differences were record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apy continued to treat 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women in th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n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b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e decision of 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igpen &amp; Cleckle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seemed to be the pers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st likely to bring a sol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the troubled mi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was increasingly domina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 the other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448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moral dilemma (ethics)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noted the moral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roblem o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kill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ne or more of the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Other explanation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a very good actress (were T &amp; C conned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psychotic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schizophrenic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uld the hypnotism have caused the multiple personality effec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 &amp; C conclud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did wonder whether they had become so involved that they ‘lost their sense of judgement and over dramatised the case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remain convinced that they witnessed a case of multipl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Note: A film was made!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not a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but  can only be inferred from how we interact with other people and generally deal with the worl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strange cas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ultiple personalities of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Sybi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see Schreiber 1973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ck to the question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 do we mean by person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personality a stable trai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do we mean b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 like himself/herself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/he’s a changed pers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ting out of charac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 - postscrip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1975 a woman came forward and sai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d she had experienced many other personalities both before therapy and since (22 in al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t the fragmentation of her personality had been to protect herself from ‘unbearable experience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illing one/more of the personalities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should decide thi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king a film for profit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benefits  &amp; what about patient confidenti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ring the treatment Eve White got worse.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‘Who’ gives informed consent for the treatment procedures 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ich personality do you think T &amp; C approved of mos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ght there be a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ulture &amp; gender bia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sue here? Were their judgements biased by the ‘social norms’ of the 1950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Questions you should be able to answ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were the similarities &amp; differences between Eve White and Eve Blac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the main difference between multiple personality disorder &amp; schizophreni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problems with the case study method does this study highligh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factor(s) may have influenced their diagnosi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 question to think abou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Eysenck’s theory of biological basis for personality 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rrec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uld Eve have had multiple personalit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e: These day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P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calle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sassociative Identity Disord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Multiple Personality Disord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680" y="2636640"/>
            <a:ext cx="8134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requency distribu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4 cases between 1944 - 196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0 cases in the 1970s ! (6 by Sybil’s therapis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n more in the 1980s (an epidemic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ise &amp; fall correlates with th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act of Freud’s psychoanalytic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ost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the US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18716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iversally accepted definition even among psychiatrists in the US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d the study &amp; read up ab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– is this an altered state of consciousness or an extreme case of demand characteristic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raw up a table of similarities and differences between EW, EB and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ron &amp; Byrne (199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is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combination of those relatively enduring TRAITS which influence behaviour in a predictable way in a variety of situa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introvert is quiet, retiring, introspectiv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nd of books rather than of people, reserved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t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233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x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extrovert is sociable, likes parties, h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riends, needs people to talk to, cr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itement, and likes change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160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biologic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basis for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ysen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iological differences in nervous sys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trong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tend to damp down incoming sensory data - thus they are under aroused and need to ‘arouse themselves’ with activity’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nsitive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amplify incoming sensory data, thus they need to ‘reduce sensory input’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ersonality trait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the Eysenck theory of a biological basis f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predict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t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ari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is a reductionist theory of person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do we mean by ‘reductionist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5:05:36Z</dcterms:modified>
  <cp:revision>7</cp:revision>
  <dc:subject/>
  <dc:title>Slide 1</dc:title>
</cp:coreProperties>
</file>