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TYPE.WAV" ContentType="audio/x-wav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680" y="474912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00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04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6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00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04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776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680" y="474912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776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500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004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96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500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004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298440" indent="-29844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06840" indent="-298440">
              <a:spcBef>
                <a:spcPts val="17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504080" indent="-29844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810440" indent="-155880">
              <a:spcBef>
                <a:spcPts val="17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34800" indent="-173160">
              <a:spcBef>
                <a:spcPts val="174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134800" indent="-17316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134800" indent="-17316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lvl="1" marL="198360"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458640" indent="97632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708120" indent="126180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895320" indent="1440000" algn="ctr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895320" indent="1440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895320" indent="1440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920" y="2565360"/>
            <a:ext cx="8134200" cy="18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89d00"/>
                </a:solidFill>
                <a:latin typeface="Arial"/>
              </a:rPr>
              <a:t>AS level Psychology</a:t>
            </a:r>
            <a:br>
              <a:rPr sz="4000"/>
            </a:br>
            <a:r>
              <a:rPr b="0" lang="en-GB" sz="4000" spc="-1" strike="noStrike">
                <a:solidFill>
                  <a:srgbClr val="e89d00"/>
                </a:solidFill>
                <a:latin typeface="Arial"/>
              </a:rPr>
              <a:t>The Core Studies </a:t>
            </a:r>
            <a:br>
              <a:rPr sz="4000"/>
            </a:br>
            <a:r>
              <a:rPr b="0" lang="en-GB" sz="4000" spc="-1" strike="noStrike">
                <a:solidFill>
                  <a:srgbClr val="e89d00"/>
                </a:solidFill>
                <a:latin typeface="Arial"/>
              </a:rPr>
              <a:t>The developmental approach</a:t>
            </a:r>
            <a:endParaRPr b="0" lang="en-US" sz="40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94920" y="465300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Behaviourist &amp; Social Learning perspectiv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irst IV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n aggressive condi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ggressive condi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ntrol condi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cond IV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hildren observed either a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Mal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Femal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role mod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12 children in eac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9680" y="3141360"/>
            <a:ext cx="8134200" cy="33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ird IV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ender of the chil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hild was male or fema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9680" y="3141360"/>
            <a:ext cx="8134200" cy="33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u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6 boys saw aggressive ma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6 boys saw non-aggressive ma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6 boys saw aggressive fema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6 boys saw non-aggressive fema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9680" y="3141360"/>
            <a:ext cx="8134200" cy="33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u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6 girls saw aggressive fema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6 girls saw non-aggressive fema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6 girls saw aggressive ma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6 girls saw non-aggressive ma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evel 1 Independent Variable (IV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ggressive or non-aggressive role mod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evel 2 Independent variable (IV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ame sex or opposite sex role mod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rite a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Testabl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two-tailed hypothesis for the stu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rite a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Testabl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one-tailed hypothesis for the stu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9680" y="3141360"/>
            <a:ext cx="8134200" cy="33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37680" indent="-3376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matching proc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7680" indent="-3376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o ensure that each group contained equally aggressive children they were rated for aggression before the experi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7680" indent="-3376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ted on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7680" indent="-3376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ysical aggression, verbal aggre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7680" indent="-3376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ggression to inanimate objec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7680" indent="-3376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ggression inhibition (self control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9680" y="3141360"/>
            <a:ext cx="8134200" cy="33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happened then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hase one of the experi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hildren taken one at a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delling the behaviour pha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happened then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hase two of the experi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arousal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pha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is was necessary to provoke the children so that they were equally likely to display any aggressive behaviour they had learn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AS Psycholog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velopmental Psycholog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andura, Ross and Ross (1961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9680" y="3284640"/>
            <a:ext cx="81342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happened then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hase three of the experi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observation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pha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hild left alone in play room to which a ‘mini’ Bobo and mallet had been add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lnSpc>
                <a:spcPct val="9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was observe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criteri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mitative aggress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n-imitative aggress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oth physical &amp; verb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.g. hitting Bobo with mall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9680" y="3141360"/>
            <a:ext cx="8134200" cy="33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lnSpc>
                <a:spcPct val="9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o observed?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re than one observer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ow long for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or 20 minutes in 5 second time samp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240 observation samples for each chil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xamples of behaviour observ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900000" y="3789360"/>
            <a:ext cx="3024360" cy="2297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156360" y="2349360"/>
            <a:ext cx="2486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9680" y="3284640"/>
            <a:ext cx="81342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Resul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Imitation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- the children in the aggressive condition imitated many of the modelled physical and verbal aggressive behaviou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Resul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Imitation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- the children in the NON- aggressive condition imitated very few of the modelled behaviou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70% had zero scor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9680" y="3141360"/>
            <a:ext cx="8134200" cy="33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Resul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Non-imit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children in the aggressive condition displayed more non-imitative (non-copied) aggressive behaviou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9680" y="3141360"/>
            <a:ext cx="8134200" cy="33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Resul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Non-aggressive condition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children in the non-aggressive condition spent more time playing with the toys (dolls, etc.) also more time doing noth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9680" y="3428640"/>
            <a:ext cx="8134200" cy="30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Gender Resul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oys imitated more physical aggression (but not verbal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9680" y="3284640"/>
            <a:ext cx="81342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Gender Resul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oys more aggressive after watching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mal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aggressive mod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irls more aggressive after watching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femal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aggressive mod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9d00"/>
                </a:solidFill>
                <a:latin typeface="Arial"/>
              </a:rPr>
              <a:t>Bandura, Ross &amp; Ross</a:t>
            </a:r>
            <a:br>
              <a:rPr sz="3200"/>
            </a:br>
            <a:r>
              <a:rPr b="0" lang="en-US" sz="3200" spc="-1" strike="noStrike">
                <a:solidFill>
                  <a:srgbClr val="e89d00"/>
                </a:solidFill>
                <a:latin typeface="Arial"/>
              </a:rPr>
              <a:t>The Bobo Doll Study </a:t>
            </a:r>
            <a:endParaRPr b="0" lang="en-US" sz="3200" spc="-1" strike="noStrike">
              <a:solidFill>
                <a:srgbClr val="e89d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700360" y="3381480"/>
            <a:ext cx="388764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3357360"/>
            <a:ext cx="8134200" cy="31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Conclus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earning can take place by observ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hildren more likely to learn from same sex mode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Conclus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andura suggested Freud’s theory of identification may be used to explain how learning took plac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inking point: Which of Freud’s stages might these children have been in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3357360"/>
            <a:ext cx="8134200" cy="31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nsider:  BPS guidelines – Was this study ethical?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are the issues?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f not ethical,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why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no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9680" y="3284640"/>
            <a:ext cx="81342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oes this study have ecological validit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f not ecologically valid - why no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3284640"/>
            <a:ext cx="81342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participa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o whom can we generalise the finding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debate about whether children learn aggressive behaviour from watching violence on TV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ow might watching TV differ from the experience of the children in the Bandura experimen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re were four predictions (hypotheses) in thi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Matched subject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experi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were they?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9680" y="3068640"/>
            <a:ext cx="813420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w complete your assignment on Bandura, Ross and Ro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484360" y="3860640"/>
            <a:ext cx="3527640" cy="25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Questio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nature - nurture deba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o children learn behaviour from the behaviour they observe around them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Specifically…….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n aggressive behaviour be learned by observation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B:  This was one of the studies that triggered the TV violence deba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75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75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2396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ist two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ehaviour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you think a child might learn by observing other people    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72396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ist two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ehaviour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you think could not be learned in this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a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76360" y="476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Getting started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9680" y="3141360"/>
            <a:ext cx="8134200" cy="33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participa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72 children (Stanford University nursery school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36 boys &amp; 36 gir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ge range 37 months - 69 month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ean age  52 month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Two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adult ‘role models’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ne male and one fema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nd a female experiment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ndura, Ross &amp; Ross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obo doll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9680" y="3357360"/>
            <a:ext cx="8134200" cy="31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ethod - an experi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ree condi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24 children in each condi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20:08:06Z</dcterms:created>
  <dc:creator>Pete</dc:creator>
  <dc:description/>
  <dc:language>en-US</dc:language>
  <cp:lastModifiedBy>Lior Erez</cp:lastModifiedBy>
  <dcterms:modified xsi:type="dcterms:W3CDTF">2010-05-10T08:39:32Z</dcterms:modified>
  <cp:revision>3</cp:revision>
  <dc:subject/>
  <dc:title>Slide 1</dc:title>
</cp:coreProperties>
</file>