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680720"/>
            <a:ext cx="8134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27079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6807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6807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26190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2707920"/>
            <a:ext cx="26190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2707920"/>
            <a:ext cx="26190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680720"/>
            <a:ext cx="26190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680720"/>
            <a:ext cx="26190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680720"/>
            <a:ext cx="26190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39693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2707920"/>
            <a:ext cx="39693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699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2707920"/>
            <a:ext cx="39693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6807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39693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27079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6807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27079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680720"/>
            <a:ext cx="8134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680720"/>
            <a:ext cx="8134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27079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6807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6807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26190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2707920"/>
            <a:ext cx="26190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2707920"/>
            <a:ext cx="26190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680720"/>
            <a:ext cx="26190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680720"/>
            <a:ext cx="26190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680720"/>
            <a:ext cx="26190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39693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2707920"/>
            <a:ext cx="39693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699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2707920"/>
            <a:ext cx="39693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6807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39693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7079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6807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707920"/>
            <a:ext cx="39693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680720"/>
            <a:ext cx="8134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0480" indent="-3304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04040" indent="-330480">
              <a:spcBef>
                <a:spcPts val="1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665000" indent="-3304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2004480" indent="-172440">
              <a:spcBef>
                <a:spcPts val="1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363400" indent="-191520">
              <a:spcBef>
                <a:spcPts val="14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363400" indent="-191520"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363400" indent="-191520"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458640" indent="976320" algn="ctr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708120" indent="1261800" algn="ctr"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895320" indent="1440000" algn="ctr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audio" Target="file:///tmp/home/.config/libreoffice/4/user/gallery/MSj03883640000%5B1%5D.wav" TargetMode="External"/><Relationship Id="rId4" Type="http://schemas.microsoft.com/office/2007/relationships/media" Target="file:///tmp/home/.config/libreoffice/4/user/gallery/MSj03883640000%5B1%5D.wav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e89d00"/>
                </a:solidFill>
                <a:latin typeface="Arial"/>
              </a:rPr>
              <a:t>AS level Psychology</a:t>
            </a:r>
            <a:br>
              <a:rPr sz="5100"/>
            </a:br>
            <a:r>
              <a:rPr b="0" lang="en-GB" sz="5100" spc="-1" strike="noStrike">
                <a:solidFill>
                  <a:srgbClr val="e89d00"/>
                </a:solidFill>
                <a:latin typeface="Arial"/>
              </a:rPr>
              <a:t>The Core Studies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The Biological Approach</a:t>
            </a:r>
            <a:br>
              <a:rPr sz="3300"/>
            </a:b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43800" y="304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380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3049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609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24360" y="4365720"/>
            <a:ext cx="1600200" cy="184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76720" y="5877000"/>
            <a:ext cx="21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stages of sleep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66"/>
                </a:solidFill>
                <a:uFillTx/>
                <a:latin typeface="Arial"/>
              </a:rPr>
              <a:t>Stage 3 sleep</a:t>
            </a:r>
            <a:r>
              <a:rPr b="0" lang="en-GB" sz="2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Arial"/>
              </a:rPr>
              <a:t>Slow delta waves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Arial"/>
              </a:rPr>
              <a:t>Less sleep spindles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Arial"/>
              </a:rPr>
              <a:t>Heart and breathing rate continue to fall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66"/>
                </a:solidFill>
                <a:uFillTx/>
                <a:latin typeface="Arial"/>
              </a:rPr>
              <a:t>Stage 4 sleep</a:t>
            </a:r>
            <a:r>
              <a:rPr b="0" lang="en-GB" sz="2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Arial"/>
              </a:rPr>
              <a:t>Only delta waves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Arial"/>
              </a:rPr>
              <a:t>Arousal threshold high (people are hard to wake up)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Arial"/>
              </a:rPr>
              <a:t>4 stages of Slow Wave Sleep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66"/>
                </a:solidFill>
                <a:uFillTx/>
                <a:latin typeface="Arial"/>
              </a:rPr>
              <a:t>All synchronised slow wave activity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M sleep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fter about 90 minutes EEG shows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shif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nto fa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ynchronised brain activ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eart rate increa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keletal muscles relaxed (paralysi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apid Eye Movements occur (REM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M sleep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5 minutes in REM sleep then back through stage 2, 3 and 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s cycle repeats every 90 minut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5 or 6 cycles per nigh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wards morning more REM 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 dream in REM sleep, thus dream more in early morn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rain and its states...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0040" y="2707920"/>
            <a:ext cx="320832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EG recording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f brain activ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64000" y="2133720"/>
            <a:ext cx="5113440" cy="45432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is sleep </a:t>
            </a:r>
            <a:r>
              <a:rPr b="0" lang="en-GB" sz="3600" spc="-1" strike="noStrike" u="sng">
                <a:solidFill>
                  <a:srgbClr val="e89d00"/>
                </a:solidFill>
                <a:uFillTx/>
                <a:latin typeface="Arial"/>
              </a:rPr>
              <a:t>for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 evolutionary the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species sleep, thus sleep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mus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have a valuable function  (survival of the speci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 animals need sleep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ats deprived of sleep die after 21 day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ouvet - cats &amp; the flower pot technique (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these animals may have died of stres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Human sleep deprivation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REM sleep seems important: The Randy Gardner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olunteers who are gradually deprived of sleep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sleep reduced from 8 hours to 2 hour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ack REM sleep into the time they CAN 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o we only DREAM in REM sleep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ow can we find ou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lan a research project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veloped a rigorous and objective test of the relationship between REM sleep and dream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1345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    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 sleep laboratory volunteer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9680" y="2707920"/>
            <a:ext cx="8134200" cy="3776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835280" y="2133720"/>
            <a:ext cx="5976720" cy="45892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ree ways to collect dat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1st DV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ream recall during REM and NREM 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woke people up and asked them if they had dream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leep and Dream state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sciousn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is consciousnes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sciousness is what goes on between your ears when you are awak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s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dreaming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 state of consciousnes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ltered states of consciousn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leep, drugs, meditation, hypnosi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00480" y="502920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ree ways to collect dat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2nd DV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ubjective estimate of the duration of dreams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correlate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to the duration of REM before awake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asked people to say how long their dreams had las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ree ways to collect dat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3rd DV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atterns of eye movements were related to the reported dream cont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test whether the movement represented specific expression of the visual dream experie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ird DV - the criteria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Fou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eye movement patter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1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inly vertic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1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inly horizont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1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ertical &amp; horizont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1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ttle or n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ve we all got tha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3 ways to collect the data (DV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lf report of dream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lf report of length of dream - correlated to length of EEG R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rrelation of eye movement to reported dream cont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9 participants (7 male &amp; 2 femal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Only 5 studied intensiv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thod - a lab experi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rocedure - Ps asked to refrain from alcohol &amp; caffei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port at bed time to sleep lab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s go to bed in quiet roo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lectrodes stuck next to eyes to record eye move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lectrodes stuck to scalp to record brain waves (EEG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attached by single wire to EEG (lead wire at top of b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w - Ps awakened through the night to test their dream recal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1 awakenings in first 2 hrs of 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9 awakenings in 2nd 2 hrs of 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8 awakenings in 3rd 2 hrs of 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2 awakenings in 4th 2 hrs of 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2637000"/>
            <a:ext cx="8134200" cy="37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44880" indent="-3448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were woken by a bell placed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xt to the b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4880" indent="-3448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woken the Ps spoke into a recording device near the b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4880" indent="-3448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Firs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- they said whether they had been dream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4880" indent="-3448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ex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they said what they were dreaming about (if they could)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2205000"/>
            <a:ext cx="1086120" cy="125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43580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7" dur="1898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Contr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 communication between experimenter and sleeper until after they told of their dream content, in case the experimenter ‘suggested the content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Contr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were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told whether they had been woken in REM sleep or in NREM 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oken in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both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REM and NR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leep and wakefulnes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em different but have a lot in comm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 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 may ‘talk’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 may ‘walk’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 have memo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 can even plan thi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leep patterns vary - average = 7/8 hours per n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dings of 9 participa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Dream reports  (DV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M Slee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92 awakeni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52 dream repor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39 no dream repor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dings of 9 participa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Dream reports  (DV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REM Slee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60 awakeni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1 dream repor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49 no dream repor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dings of 9 participa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Dream reports  (DV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igh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cidence of dream recall after R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Low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cidence of dream recall after NR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2491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dings of 9 participa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ength of dream correlated to length of REM (DV2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ow was this don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s awakened randomly after 5 or 15 minutes of REM and asked to guess how long they had been dreaming  </a:t>
            </a: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(5 or 15 minut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9680" y="256500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dings of 9 participa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5 minutes REM 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45 reports were r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6 reports were wr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15 minutes REM 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47 reports were r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3 reports were wr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DINGS of 9 participa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ength of dream correlated to length of REM (DV2)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All Ps guessed accurately except one P who could only remember the ends of drea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256500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dings of 9 participa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lationship between the type of eye movement to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conten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 dream (DV3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s woken when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yp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 eye movement was regular (vertical, etc.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1 wakings - reports always looking at people or objects near to th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2707920"/>
            <a:ext cx="45036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Finding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 (DV3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e P woken when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yp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 eye movement was regular (horizontal, etc.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ported watching people throwing tomato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076720" y="2708280"/>
            <a:ext cx="3686400" cy="28954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Summary &amp; Conclus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gularly occurring REMs every nigh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All</a:t>
            </a: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 Ps recalled dreaming in R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ack of dream recall + light brain waves suggest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dreaming in NR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bjective measurement of dreaming MAY be achieved by recording REMS while people 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Evalu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M sleep is importan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brain needs to sleep to organise itsel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Evide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bies sleep longer than old peop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M is longer after complex tas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leep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sruption of sleep leads to fatigu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goes on in the brain of a sleep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rain activity can be recorded by an EEG  (ElectroEncephaloGram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 - Question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es it matter that only 2 Ps were femal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y were Ps asked to refrain from alcohol / caffein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y was it important that the Ps did not know whether they were in REM or NREM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es the size of the sample matt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 - Question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y might the sleep patterns be different when the Ps sleep in their own bed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y might some of the Ps have recalled dreams when they were woken in NREM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whom can we generalise the finding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the study ethical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 - Question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was the IV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were the three DV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is the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mai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disadvantage of correlational analysi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ve D &amp; K established that dreaming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onl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ccurs in REM sleep?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You must read this study u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ad a chapter on Sleep research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ment and Kleitm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ry recalling your own drea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eep a dream dia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 you dream more after you have been studying har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leep and dream state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 sleep every 24 hour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 spend 30% of our lives a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leep is an active,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 passive behaviou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ment and Kleitman (1950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five stages of 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leep and dream state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ational Initiativ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f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GF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ctor Develop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nectiv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cal initiativ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clusivity and widening particip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brain and its states...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aking EEG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ynchronised brain wav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t all chanting toge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rain waves while awak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stages of sleep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Before 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ust as we fall aslee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ynchronised alpha wav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eart rate slows, temperature fal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uscle tension redu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stages of sleep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256500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0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Stage 1 sleep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0480" indent="-3304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pha waves reduc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0480" indent="-3304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ess desynchronised brain activ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0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Stage 2 sleep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0480" indent="-3304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ynchronised brain activit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0480" indent="-3304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arger and slower wav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0480" indent="-33048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rsts of sharp ‘spikes’ (sleep spindl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0:08:06Z</dcterms:created>
  <dc:creator>Pete</dc:creator>
  <dc:description/>
  <dc:language>en-US</dc:language>
  <cp:lastModifiedBy>Lior Erez</cp:lastModifiedBy>
  <dcterms:modified xsi:type="dcterms:W3CDTF">2010-05-10T09:30:51Z</dcterms:modified>
  <cp:revision>4</cp:revision>
  <dc:subject/>
  <dc:title>Slide 1</dc:title>
</cp:coreProperties>
</file>