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TYPE.WAV" ContentType="audio/x-wav"/>
  <Override PartName="/ppt/media/image6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AS Level Psychology..</a:t>
            </a:r>
            <a:br>
              <a:rPr sz="5100"/>
            </a:b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he Individual differences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astonishing study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On being sane in insane plac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507996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. L. Rosenhan (197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did he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ere involv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2923920"/>
            <a:ext cx="3990960" cy="3560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76720" y="3357720"/>
            <a:ext cx="19465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brave volunteer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igh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ane peopl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e graduate stud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psychologis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paediatricia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pain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wo housew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did they do?</a:t>
            </a:r>
            <a:br>
              <a:rPr sz="3600"/>
            </a:b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Proced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ephoned 12 psychiatric hospitals for urgent appointment (in five USA stat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rived at ad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ve false name and addres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ve other ‘life’ details correct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else did they do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lained of hearing unclear voices, saying “empty, hollow, thud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id the voice was unfamiliar, but was same sex as themsel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ulated ‘existential crisis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am I, what’s it all for?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happened?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were admitted to hospit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but one were diagnosed as suffering from schizophren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ce admitted the ‘pseudo-patients’ stopped simulating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n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ympto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ok part in ward activ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happened on the ward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seudo-patients were never detec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pseudo-patients wished to be discharged immedia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B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they waited until they were diagnosed as ‘fit to be discharged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How did the ward staff ‘see’ them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rmal behaviour was misinterpre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ing notes was described as “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The patient engaged in writing behaviour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riving early for lunch described as  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oral acquisitive syndrom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ur distorted to ‘fit in’ with 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seudo-patient’s observatio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they approached staff with simple requ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Nurses &amp; attenda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88% ignored them (walked away with head avert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0%  made eye conta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% stopped for a c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(1283 attemp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seudo-patient’s observations…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they approached staff with simple requ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sychiatris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71% ignored them  (walked away with head avert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3%  made eye conta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% stopped for a c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185 attempt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How long did they stay in hospital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hortest stay was 7 d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ongest stay was 52 d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average stay was 19 d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They had agreed to stay until they convinced the staff they were sane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scuss: How would YOU convince some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you are san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D.L. Rosenhan (1973)</a:t>
            </a:r>
            <a:br>
              <a:rPr sz="3200"/>
            </a:b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319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being sane in insane place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2923920"/>
            <a:ext cx="3990960" cy="3560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21997" t="0" r="0" b="0"/>
          <a:stretch/>
        </p:blipFill>
        <p:spPr>
          <a:xfrm>
            <a:off x="3708360" y="2924280"/>
            <a:ext cx="5106960" cy="354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2708280"/>
            <a:ext cx="19461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ere they treated  in the same way as normal patien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iven total of 2100 medication tabl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y flushed them down the lo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ed that other patients did the same and that this was ignored as long as patients behaved themselves 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sorts of records did they keep?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urses stayed in ward offices 90% of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ach ‘real patient’ spent less than 7 minutes per day with psychiatric staf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erhaps they behaved ‘abnormally’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seudo-patient’s visitors detected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No serious behavioural consequence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Did anyone suspec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about th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re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patient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5 out of 118 patients voiced their suspic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n relea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seudo-patients were diagnosed as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chizophrenia “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in remiss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osenhan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ollow up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teaching &amp; research hospital was told of the first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 warned that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 the next three month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ne or mo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seudo-patient will attempt to be admit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happened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taff members rated ‘new patients’ on scale </a:t>
            </a:r>
            <a:br>
              <a:rPr sz="2800"/>
            </a:b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-10 as ‘how likely to be a fraud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93 patients ‘assessed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1 rated as a pseudo-patient (by staff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3 rated as pseudo-patient (by psychiatris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9 rated as pseudo-patient (by both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How many of thes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suspects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ere pseudo-patient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3428640"/>
            <a:ext cx="813420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N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pseudo-patients were sent – the staff were rating their regular intak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Rosenhan conclud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ember: His question w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 the characteristics of abnormality reside in the patien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the environments in which they are observ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oes madness lie in the eye of the observer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osenhan’s  conclusio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is clear that we are unable to distinguish the sane from the insane in psychiatric hospital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In the first stud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are unable to detect ‘sanity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In the follow up stud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are unable to detect ‘insanity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Questio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sanity and insanity exi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shall we recognise them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osenhan’s study highlighte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depersonalisation and powerlessness of patients in psychiatric hospit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behaviour is interpreted according to expectations of staff and that these expectations are created by the labels Sanity &amp; Insan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Rosenhan not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seudo-patients described their stay in the hospitals as a negative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is not to say that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re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atients have similar experie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l patients do not know the diagnosis is false &amp; ar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reten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.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ology: This was a field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o were the participan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is study ethical? If not why no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might the reports of the pseudo-patients have been unreliab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ok back at your ‘list’ of abnormal behaviou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n we devise some general rules to describ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bnorm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behaviou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osenhan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You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must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read this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is one of the most influential studies  in Abnormal Psych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there are such things a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sanit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insanit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,</a:t>
            </a: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shall we know them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n being sane in insane places.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319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. L. Rosenhan (197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51134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pecificall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 the characteristics of abnormality reside in the patien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 the environments in which they are observ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ink about this ..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es madness lie in the eye of the observ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Before we begi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st two behaviours tha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onsider to be a sign of psychological abnorm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ite down why you think each of these behaviours is abnormal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18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ut your suggestions aside for a mo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ome definitions of abnorm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atton &amp; Hayes (1993)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Abnormality 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Behaviour which deviates from the norm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ost people don’t behave that wa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Behaviour which does not conform to social demands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ost people don’t like that behavi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Behaviour which is maladaptive or painful to the individual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t’s not normal to harm yoursel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ok at your examples: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d your examples fall into those three categor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n you think of any other useful definitions of abnorm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was Rosenhan’s interest?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reliable are diagnoses of abnorm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ll the same symptoms always be diagnosed in the same way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3:09:56Z</dcterms:modified>
  <cp:revision>6</cp:revision>
  <dc:subject/>
  <dc:title>Slide 1</dc:title>
</cp:coreProperties>
</file>