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-2484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7880" indent="-237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857880" indent="-1782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057320" indent="-1980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45864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70812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89532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304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304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5791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609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36680"/>
            <a:ext cx="72388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avage-Rumbaugh et al</a:t>
            </a: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 (1986)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Spontane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ymbol acquisition and communicative use by pygmy chimpanz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90920" y="3573360"/>
            <a:ext cx="4267080" cy="291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3726000"/>
            <a:ext cx="1600200" cy="2057400"/>
          </a:xfrm>
          <a:prstGeom prst="wedgeRoundRectCallout">
            <a:avLst>
              <a:gd name="adj1" fmla="val 101986"/>
              <a:gd name="adj2" fmla="val -11495"/>
              <a:gd name="adj3" fmla="val 16667"/>
            </a:avLst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n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xi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inguistic Universal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Semanticity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- words have mean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Displacemen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- words can be used to refer to things that are not present in time and 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Structure dependence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- words can be ‘chunked together’ and moved around - e.g., The policeman shot the man in the garag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Creativity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- each sentence that is spoken might be a unique ‘utterance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Generalisation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- from one situation to another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- the great debate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601668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teach language to ap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ration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apes can learn languag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supports Skinner (nurture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not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haps Chomsky is right (natur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04000" y="2924280"/>
            <a:ext cx="2025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Teaching language to ap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earliest experime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The Kelloggs and Gu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rought up like human bab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ntinually exposed to spee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nderstood’ 70 words but never spok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himps hav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vocal cho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59640" y="2997360"/>
            <a:ext cx="18651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92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ymbolic keyboard linked 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computer and a vending mac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 Lana requested ‘food’ she received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Lana understood symbols like ‘more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es – semanticity, yes - displacement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 - structure depend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1628640"/>
            <a:ext cx="38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Savage-Rumb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&amp; 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ardner &amp; Gardner (Washoe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A case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articipant - a female chim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ge - approx 1 year 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rocedure - Washoe lived in 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 caravan in the Gardner’s garden &amp; was taught American Sign Language (ASL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714760"/>
            <a:ext cx="211932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Washoe’s progres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24922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irst single words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e, Gimme, Hurry, Sweet, Tick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34 after 21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y 4 years over 100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es - semantic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ign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othbrush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n bathroo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ign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low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n garden and when shown picture of flow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Washoe’s progres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2276640"/>
            <a:ext cx="81342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Yes - creativit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ashoe spontaneously use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mbinations of sig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imme Tickl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- come and tickle 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pen Food Drink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- open the frid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isten E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- listen to the dinner go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 Swee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- take me to the raspberry bus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16720" y="1484280"/>
            <a:ext cx="211932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Washoe’s progres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9680" y="24922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69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No Structure Depend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nglish children usually put th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subjec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before th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07320" indent="-212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ummy co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607320" indent="-212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ve rea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607320" indent="-212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ar g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ashoe did not seem to do th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 Swee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weet Go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both used for take me to the raspberry bus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76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avage-Rumbaugh et al (1986) Spontaneous symbol acquisition and communicative use by pygmy chimpanze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9680" y="4220640"/>
            <a:ext cx="41432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Kanzi &amp; Sue Savage-Rumba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aving A chat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962520" cy="296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1345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Savage-Rumbaugh et al (1986) Spontaneous symbol acquisition and communicative use by pygmy chimpanzees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3716280"/>
            <a:ext cx="191124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Kanzi’s lexigram ‘keyboard’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6610320" cy="360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Thinking about human language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urious green ideas sleep peacefu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 the sentence make sens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the word order be chang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e sentence grammatical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id you make these decision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5029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Savage-Rumbaugh et al (1986) Spontaneous symbol acquisition and communicative use by pygmy chimpanzees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3141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81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Research ques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an Kanzi learn symbolic language without training in the same way children do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1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ase Study - longitudinal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report of Kanzi’s language development (the findings) is described as ‘serendipitous’ - occurred by happy ch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3859200"/>
            <a:ext cx="81342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rticipa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anzi,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orn 28/10/80 in captivity, his mother was a ‘language chimp’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signed to the language research centre at 6 months &amp; reared in a language using environment with hum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2.5 yrs old it was observed that he was using symbols spontaneously (perhaps because he had observed his moth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2781360"/>
            <a:ext cx="2133720" cy="914400"/>
          </a:xfrm>
          <a:prstGeom prst="wedgeEllipseCallout">
            <a:avLst>
              <a:gd name="adj1" fmla="val 136458"/>
              <a:gd name="adj2" fmla="val -11805"/>
            </a:avLst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Serendipitous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Kanz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gan to use symbols without training after he was separated from his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dentified symbols correctly and did not confuse them (e.g. apple, orange, bana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nderstood spoken wo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9680" y="26748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The visual symbol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Indoor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battery powered keyboard with geometric symbols that brighten when touched, then speech synthesiser ‘speaks’ the w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Outdoor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copy of keyboard 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s laminated pointing bo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ach symbol called 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xigr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2819160" cy="192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276280"/>
            <a:ext cx="8134200" cy="36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6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Kanzi’s outdoor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5 acres forest; 17 food locations; must travel to ‘get food’ each location for a specific food type e.g. bananas to treehouse, peaches to look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nzi learned where all the food was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uld select a food from photos on the ground and could guide another person to his chosen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9200" indent="-169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ed to use the symbols on the keyboard to indicate where he wanted to 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ongitudinal case study - data col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s kept of Kanzi’s language development (symbol use) for 17 month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rom the age of 2 1/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mputerised records from keybo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tes from observers when outs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31624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7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ongitudinal cas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ata (assessing Kanzi’s symbol 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or in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ontan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ed (e.g. Responds to ques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000" indent="-171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behavioural concordance (agreement), e.g. If request to ‘go to treehouse’ led a person to the tree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430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243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65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5240" indent="-1652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ysis of videotape against real time coding of symbol use by 2 obser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5240" indent="-1652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 scored real time, 1 scored tape, real time observer did not know the record would be used for reliability che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5240" indent="-1652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% agreement on correct vs. incorrect use of symb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5240" indent="-1652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 disagreement over spontaneous 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45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050920" y="2060640"/>
            <a:ext cx="6337080" cy="4608360"/>
            <a:chOff x="2050920" y="2060640"/>
            <a:chExt cx="6337080" cy="4608360"/>
          </a:xfrm>
        </p:grpSpPr>
        <p:graphicFrame>
          <p:nvGraphicFramePr>
            <p:cNvPr id="154" name=""/>
            <p:cNvGraphicFramePr/>
            <p:nvPr/>
          </p:nvGraphicFramePr>
          <p:xfrm>
            <a:off x="2050920" y="2060640"/>
            <a:ext cx="4803120" cy="460836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0920" y="2060640"/>
                      <a:ext cx="4803120" cy="46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7529400" y="2145240"/>
              <a:ext cx="858600" cy="520560"/>
            </a:xfrm>
            <a:prstGeom prst="borderCallout1">
              <a:avLst>
                <a:gd name="adj1" fmla="val 18750"/>
                <a:gd name="adj2" fmla="val -8333"/>
                <a:gd name="adj3" fmla="val 123009"/>
                <a:gd name="adj4" fmla="val -186962"/>
              </a:avLst>
            </a:prstGeom>
            <a:solidFill>
              <a:srgbClr val="9696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29400" y="2953080"/>
              <a:ext cx="858600" cy="520560"/>
            </a:xfrm>
            <a:prstGeom prst="borderCallout1">
              <a:avLst>
                <a:gd name="adj1" fmla="val 18750"/>
                <a:gd name="adj2" fmla="val -8333"/>
                <a:gd name="adj3" fmla="val -9810"/>
                <a:gd name="adj4" fmla="val -138180"/>
              </a:avLst>
            </a:prstGeom>
            <a:solidFill>
              <a:srgbClr val="9696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6080" y="3788280"/>
              <a:ext cx="858600" cy="520560"/>
            </a:xfrm>
            <a:prstGeom prst="borderCallout1">
              <a:avLst>
                <a:gd name="adj1" fmla="val 18750"/>
                <a:gd name="adj2" fmla="val -8333"/>
                <a:gd name="adj3" fmla="val 109671"/>
                <a:gd name="adj4" fmla="val -137129"/>
              </a:avLst>
            </a:prstGeom>
            <a:solidFill>
              <a:srgbClr val="9696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29400" y="4647600"/>
              <a:ext cx="858600" cy="520560"/>
            </a:xfrm>
            <a:prstGeom prst="borderCallout1">
              <a:avLst>
                <a:gd name="adj1" fmla="val 18750"/>
                <a:gd name="adj2" fmla="val -8333"/>
                <a:gd name="adj3" fmla="val -117620"/>
                <a:gd name="adj4" fmla="val -329333"/>
              </a:avLst>
            </a:prstGeom>
            <a:solidFill>
              <a:srgbClr val="9696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430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14300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205000"/>
            <a:ext cx="441180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30 correct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were ‘two foods’, e.g. hotdog and c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65 im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on (g) chase Kanzi’ person (g) chase person (g)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 = gesture to indicate ‘who’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es structure dependence / correc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32360" y="2637000"/>
          <a:ext cx="4038480" cy="39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637000"/>
                    <a:ext cx="40384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859280" y="20606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ample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Thinking about human language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quiring human langu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e ability to use human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nguage learned or innat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ature or nurture deb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667240" cy="2031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41264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esting Kanz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en lexigram and/or pho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ed to match to ob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so match to spoken Engli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e example 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3581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356000" y="2405160"/>
            <a:ext cx="4500720" cy="3760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1345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1345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anzi: comparison of imitated or  spontaneous to ‘other ape learners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3581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16000" y="3573360"/>
          <a:ext cx="6699240" cy="27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573360"/>
                    <a:ext cx="669924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u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anzi learned to use the symbols spontaneous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ompared to other species of chimps pygmy chimpanzees appear to be able to learn and use language more like a human chi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anzi &amp; the language universal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emanticity -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ye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; creativity -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ye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ructure dependence -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ye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Generalisation -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ye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; Displacement -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581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1345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br>
              <a:rPr sz="4400"/>
            </a:b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1345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2" marL="64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valuative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++  Both quantitative and qualitativ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Validity of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Reliability of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Representativeness of samp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Ecological validity (level of realis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Generalisability to other pygmy chim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Ethical issu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Differences between Kanzi &amp; child lear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2600" indent="-22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Useful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581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Savage-Rumbaugh et al (1986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0040" y="2851200"/>
            <a:ext cx="3495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pontaneous symbol acquisition and communicative use by pygmy chimpanze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581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11640" y="2781360"/>
            <a:ext cx="4764240" cy="35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theori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behaviourist theory (Skinn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ren learn by imitation and reinforc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erant conditio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theori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The nativist theory (Chomsky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hildren are born with an innate language acquisition de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ability to learn &amp; use language is hard wired into the human br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theori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urture (Skinn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theory emphasises perform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hild imitates what she hears and is reinforced when corr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adually vocalisations are shaped and words are lear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theori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urture (Skinner):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ould take too lo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s do not reinforce correct spee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anguage theorie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The nativist theory (Chomsky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mphasises the difference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58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erformance vs competen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58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Using vs understand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ll humans are ‘prepared’ to learn langu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ll normal children acquire language in similar s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inguistic universals exist in every langu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Linguistic Universals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hree components of languag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onology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ound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yntax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word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mantic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eaning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15:48Z</dcterms:created>
  <dc:creator>Corporate User</dc:creator>
  <dc:description/>
  <dc:language>en-US</dc:language>
  <cp:lastModifiedBy>Lior Erez</cp:lastModifiedBy>
  <dcterms:modified xsi:type="dcterms:W3CDTF">2010-05-10T14:07:23Z</dcterms:modified>
  <cp:revision>5</cp:revision>
  <dc:subject/>
  <dc:title>Slide 1</dc:title>
</cp:coreProperties>
</file>