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6EA4C-5444-4E4E-90BF-549E82DAF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21BAA-5B64-4733-B461-4564DBFC8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F634D-5E70-49BC-9188-80B1C58E8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8898-6B60-4F7F-8FA8-831F4CC42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1EDA3-05F5-4679-B46F-14777B2F9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1B56D-C337-45F8-AC52-EBFED186A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3563F2-BC48-435C-AD12-4C25D7929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403C7-7D57-45B9-93F0-383B66E1C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A8F14-0CBC-41FA-B38C-22989A7B4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A6DA0-CF59-48D0-9F1D-1609EA1CB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EB20B-4D8D-4C49-9F0C-E80B97A5F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FD3C0-48F3-4387-9605-9B8788A98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8C902-42E9-4E58-8D8D-7567B2DF4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689C4-0DEC-4251-9FB7-B13312398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E6597-EEFD-4CCD-9355-704BD13A3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E37F3-9B51-461A-ADB6-B8A07917B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4916F-CB2F-4E5D-82FC-47D0B1638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C5987-7CF3-49FB-B1DF-499F322830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14C1E-B590-450E-BD2B-5E3D438E59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63F11-DE1A-45F7-82EF-FBB4511F2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AB984-0CD6-4E79-BF2E-678731A3CE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DD483-880D-48A2-B856-B7740F7FD4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89B9-300F-4031-9957-A0C1A5BB0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E4C96-2DD4-401E-96BD-27326ADDC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5323D-68AE-4E2B-B880-5233719F5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20393A-2EC2-44A2-9E9B-322562B2C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BF308C-781B-478F-84A0-F7B00EB95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01265-E277-435A-8271-9ABEC97476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9E8253-A8C3-4345-A8F7-A5E0FBCB7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A1B52-4E71-4B28-AF05-5FD30B2862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ED0EB6-9A1E-4CDC-A287-6DD6A0CAA5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54683-8BC0-418F-8967-64838B97FD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7C6E0-4075-4C13-8C72-26520DEE8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14D39-BADC-49DA-ADF7-19B157A7E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976C5-ECE1-42BE-8559-C2770A76F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F44914-4EAC-4E98-BD60-9962641ED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E1FEB-2EEB-486A-A739-81BAF4F977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CE335-5F8F-4C39-9E31-45633F9FC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8C3B6-9B90-492A-921D-C0415F7F4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BF784-FB6D-4E21-9013-5B89C5220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45678-BC48-4514-95A5-561FAE5C1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09D888-873A-4A77-9C3C-89F48E8494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CCE8DD-F2E7-4820-9F32-E395EC3FB9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0985CF-1F04-47AE-ADCF-1CA6B9C32A0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DF304-164D-456E-A296-79B6A070D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5A9C1-EE39-41B9-B774-711596D84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2BF59-1079-4667-BA3A-83C3D367DA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ECB9F6-C6B2-494A-8B4B-5EEC89B3A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4FFB3-D6CF-4059-9E75-614D6F2A1E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1CBFC-3357-4F2C-8A7F-2E3C27BF2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753A8-F5EB-4B69-BD98-F45C05264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63051-434F-4DFC-9E32-E8090348E2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BC644-5B00-4BA0-9E37-99CDC39812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362936-30A0-4243-8100-ED2D8EF970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2D7974-3AC5-430B-BF53-77D8DD30F3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83ED0-1BCE-4D3C-994A-4FC2F06E5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E8FCC4-EA94-4815-8C0D-3E54518E6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927BD8-5BA1-4EBA-8DE1-D2C7EB5CB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81F19-4C70-4350-8132-246ECBDAB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98360-3C64-4318-9DC5-84A3415929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3E89CB-A996-4D3B-9474-FE33C713A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273B0-0749-409D-85EE-6F4F1AAA9C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EBEA8-980E-497B-ABA7-12FBD67E2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D7B82-C899-408D-954A-51C6F15571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BC424-FBDB-4AF2-92FF-E6B7BAA41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566C0-C077-4D13-B6C0-0A3B56087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8879-2B27-4CF0-825D-40CBE7014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99B02-2C07-4564-A5F1-1591AEC533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D54A5D-DB2C-441C-A4BF-32B8E19711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C701A7-E58F-4749-869F-CABA95A5D5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4FE6CF-0159-427F-9F23-7D6924168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847AA9-1FC6-420D-AF6F-155E50C4EB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55BE6C-7E44-4353-932B-0A0F6EDD89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421B49-22EB-4FEC-BF96-AD8BD6720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D5863-A01B-40F1-9891-268687650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AADFB0-0F7B-4AD2-BFF7-A378D68411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AE4355-1C01-40E9-9FBA-B8AF548593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08BD7-9935-4FBE-9391-35D3BBDDD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6570BF-2965-4EFC-8E32-1EDB848A34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FBEF7-7B70-4089-A853-72CF12A7F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89304A-F8E1-4913-8D5B-D15DB6579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522EC6-FEA7-4788-8759-2017B0D9AD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C79F18-CDE7-4A06-BF0F-64DA640A33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EA6224-BAD0-4974-B564-EC633A3BFB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BE3BB3-285E-4221-A3CC-21BFD84905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309056-F611-4D65-90C9-0C02DB2995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05E21-219C-4678-9875-4A5AC9D1E8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777059-6651-46A0-B053-B48A608322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1900C-ADEF-494F-BC1B-46318E5C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92C1A-1301-40C9-BFB0-2DA9A8163F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20FF1-A0CA-4152-8B18-1D0ED19567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0C852-F3C3-4122-BE52-29199BD71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828CE8-2A1F-4D7D-A4D6-233530E19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E65CC-349F-46D6-94AD-F1B8C72B2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B4181F-0AAE-45C1-B69E-7DBD95BDD4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3CA28-F078-43EF-8870-92ADC2957F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A4FF1-D4B8-4BA1-B543-7D50431EBA77}"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Rectangle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Rectangle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Rectangle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5DF6-32CC-4212-8BBE-BD4F09084D53}"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Rectangle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C4C5-A817-48B3-BC17-7235A5DA3ADF}"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147E-3636-4DC3-9422-1AED8C36EE6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4F1E9-DF12-493D-A59B-61A060BB253D}"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Straight Connector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C85B-A86E-4664-A383-C95071087109}"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Rectangle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DEE52-A035-4E99-A342-139FD556DAFE}" type="slidenum">
              <a:rPr b="0" lang="en-GB"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Isosceles Triangle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Straight Connector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37B9-0C4C-4C28-9FA1-79D79626261E}" type="slidenum">
              <a:rPr b="0" lang="en-GB"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man Old Style"/>
              </a:rPr>
              <a:t>Writing commentaries</a:t>
            </a:r>
            <a:endParaRPr b="0" lang="en-US" sz="32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464653"/>
                </a:solidFill>
                <a:latin typeface="Bookman Old Style"/>
              </a:rPr>
              <a:t>L.O. To write a good commentary worth 10 marks – 25% of your coursework grade</a:t>
            </a:r>
            <a:endParaRPr b="0" lang="en-US" sz="1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6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Have a look at your own work</a:t>
            </a:r>
            <a:endParaRPr b="0" lang="en-US" sz="3200" spc="-1" strike="noStrike">
              <a:solidFill>
                <a:srgbClr val="464653"/>
              </a:solidFill>
              <a:latin typeface="Bookman Old Style"/>
            </a:endParaRPr>
          </a:p>
        </p:txBody>
      </p:sp>
      <p:sp>
        <p:nvSpPr>
          <p:cNvPr id="402" name=""/>
          <p:cNvSpPr txBox="1"/>
          <p:nvPr/>
        </p:nvSpPr>
        <p:spPr>
          <a:xfrm>
            <a:off x="457200" y="980640"/>
            <a:ext cx="8229600" cy="547236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Choose one of the following frameworks,  and have a go at picking out a couple of features of your own and writing about i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Monologu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Lexis – word classes, poly &amp; mono, taboo, slang, sub spec, idiolec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mmar – Sentence length, function, Syntax</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Discourse – Hook, structure</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Pragmatics – Subtext, foreshadowing, dramatic irony</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Speech:</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 </a:t>
            </a:r>
            <a:r>
              <a:rPr b="0" lang="en-GB" sz="2000" spc="-1" strike="noStrike">
                <a:solidFill>
                  <a:srgbClr val="000000"/>
                </a:solidFill>
                <a:latin typeface="Gill Sans MT"/>
              </a:rPr>
              <a:t>Lexis – word classes, poly &amp; mono, taboo, slang, sub spec, jargon</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mmar - Syntax, SVOAC, Sentence length and function</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Discourse – open and close, discourse markers, rapport</a:t>
            </a:r>
            <a:endParaRPr b="0" lang="en-US" sz="20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ill Sans MT"/>
              </a:rPr>
              <a:t>Graphology/Phonology – visual/sound aids</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Check list for your 500 word commentary (minus quotes):</a:t>
            </a:r>
            <a:endParaRPr b="0" lang="en-US" sz="2900" spc="-1" strike="noStrike">
              <a:solidFill>
                <a:srgbClr val="464653"/>
              </a:solidFill>
              <a:latin typeface="Bookman Old Style"/>
            </a:endParaRPr>
          </a:p>
        </p:txBody>
      </p:sp>
      <p:sp>
        <p:nvSpPr>
          <p:cNvPr id="404" name=""/>
          <p:cNvSpPr txBox="1"/>
          <p:nvPr/>
        </p:nvSpPr>
        <p:spPr>
          <a:xfrm>
            <a:off x="456840" y="1218960"/>
            <a:ext cx="4041720" cy="5234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Gill Sans MT"/>
              </a:rPr>
              <a:t>Monologu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Opening paragraph – </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Character choice, mode, Topic choice,  Audienc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exis – word classes, poly &amp; mono, taboo, slang, sub spec, idiolect</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mmar – Sentence length, function, Syntax</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Discourse – Hook, structur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Pragmatics – Subtext, foreshadowing, dramatic irony</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
        <p:nvSpPr>
          <p:cNvPr id="405" name=""/>
          <p:cNvSpPr txBox="1"/>
          <p:nvPr/>
        </p:nvSpPr>
        <p:spPr>
          <a:xfrm>
            <a:off x="4632120" y="1216080"/>
            <a:ext cx="4041720" cy="4937040"/>
          </a:xfrm>
          <a:prstGeom prst="rect">
            <a:avLst/>
          </a:prstGeom>
          <a:noFill/>
          <a:ln w="0">
            <a:noFill/>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Gill Sans MT"/>
              </a:rPr>
              <a:t>Speech:</a:t>
            </a:r>
            <a:endParaRPr b="0" lang="en-US" sz="22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Opening paragraph – </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Mode, Topic choice,  Audience</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Lexis – word classes, poly &amp; mono, taboo, slang, sub spec, jargon</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mmar - Syntax, SVOAC, Sentence length and function</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Discourse – open and close, discourse markers, rapport</a:t>
            </a:r>
            <a:endParaRPr b="0" lang="en-US" sz="22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Graphology/Phonology – visual/sound aid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Finally</a:t>
            </a:r>
            <a:endParaRPr b="0" lang="en-US" sz="3200" spc="-1" strike="noStrike">
              <a:solidFill>
                <a:srgbClr val="464653"/>
              </a:solidFill>
              <a:latin typeface="Bookman Old Style"/>
            </a:endParaRPr>
          </a:p>
        </p:txBody>
      </p:sp>
      <p:sp>
        <p:nvSpPr>
          <p:cNvPr id="40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Reduce this so that it says the same thing but in a more concise mann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have chosen to use lots of words to show the character talks about themselves a lot, such as the pronouns “I” and “me”.  This makes them seem to be really pompous and self important and the audience can see that they only care about themselves and are very self-importan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Halve it = 30 words max</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4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If you were faced with this extract from a monologue, what would you comment on?</a:t>
            </a:r>
            <a:endParaRPr b="0" lang="en-US" sz="2900" spc="-1" strike="noStrike">
              <a:solidFill>
                <a:srgbClr val="464653"/>
              </a:solidFill>
              <a:latin typeface="Bookman Old Style"/>
            </a:endParaRPr>
          </a:p>
        </p:txBody>
      </p:sp>
      <p:sp>
        <p:nvSpPr>
          <p:cNvPr id="355" name=""/>
          <p:cNvSpPr txBox="1"/>
          <p:nvPr/>
        </p:nvSpPr>
        <p:spPr>
          <a:xfrm>
            <a:off x="457200" y="2349000"/>
            <a:ext cx="8229600" cy="38070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can’t say I’d call </a:t>
            </a:r>
            <a:r>
              <a:rPr b="0" i="1" lang="en-GB" sz="2600" spc="-1" strike="noStrike">
                <a:solidFill>
                  <a:srgbClr val="000000"/>
                </a:solidFill>
                <a:latin typeface="Gill Sans MT"/>
              </a:rPr>
              <a:t>him </a:t>
            </a:r>
            <a:r>
              <a:rPr b="0" lang="en-GB" sz="2600" spc="-1" strike="noStrike">
                <a:solidFill>
                  <a:srgbClr val="000000"/>
                </a:solidFill>
                <a:latin typeface="Gill Sans MT"/>
              </a:rPr>
              <a:t>clever.  I mean I’m intelligent, and I’m not going to beat around the bush about it – I mean I won’t procrastinate before I tell you that he’s jolly thi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7"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 can’t say I’d call </a:t>
            </a:r>
            <a:r>
              <a:rPr b="0" i="1" lang="en-GB" sz="2600" spc="-1" strike="noStrike">
                <a:solidFill>
                  <a:srgbClr val="000000"/>
                </a:solidFill>
                <a:latin typeface="Gill Sans MT"/>
              </a:rPr>
              <a:t>him </a:t>
            </a:r>
            <a:r>
              <a:rPr b="0" lang="en-GB" sz="2600" spc="-1" strike="noStrike">
                <a:solidFill>
                  <a:srgbClr val="000000"/>
                </a:solidFill>
                <a:latin typeface="Gill Sans MT"/>
              </a:rPr>
              <a:t>clever.  I mean I’m intelligent, and I’m not going to beat around the bush about it – I mean I won’t procrastinate before I tell you that he’s jolly thick.</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358" name="Straight Arrow Connector 4"/>
          <p:cNvCxnSpPr/>
          <p:nvPr/>
        </p:nvCxnSpPr>
        <p:spPr>
          <a:xfrm>
            <a:off x="1691280" y="1988640"/>
            <a:ext cx="432360" cy="793080"/>
          </a:xfrm>
          <a:prstGeom prst="straightConnector1">
            <a:avLst/>
          </a:prstGeom>
          <a:ln w="9360">
            <a:solidFill>
              <a:srgbClr val="727ca3"/>
            </a:solidFill>
            <a:miter/>
            <a:tailEnd len="med" type="arrow" w="med"/>
          </a:ln>
        </p:spPr>
      </p:cxnSp>
      <p:cxnSp>
        <p:nvCxnSpPr>
          <p:cNvPr id="359" name="Straight Arrow Connector 5"/>
          <p:cNvCxnSpPr/>
          <p:nvPr/>
        </p:nvCxnSpPr>
        <p:spPr>
          <a:xfrm>
            <a:off x="3058200" y="1988640"/>
            <a:ext cx="433800" cy="793080"/>
          </a:xfrm>
          <a:prstGeom prst="straightConnector1">
            <a:avLst/>
          </a:prstGeom>
          <a:ln w="9360">
            <a:solidFill>
              <a:srgbClr val="727ca3"/>
            </a:solidFill>
            <a:miter/>
            <a:tailEnd len="med" type="arrow" w="med"/>
          </a:ln>
        </p:spPr>
      </p:cxnSp>
      <p:cxnSp>
        <p:nvCxnSpPr>
          <p:cNvPr id="360" name="Straight Arrow Connector 6"/>
          <p:cNvCxnSpPr/>
          <p:nvPr/>
        </p:nvCxnSpPr>
        <p:spPr>
          <a:xfrm>
            <a:off x="3131640" y="3860640"/>
            <a:ext cx="3312360" cy="1369440"/>
          </a:xfrm>
          <a:prstGeom prst="straightConnector1">
            <a:avLst/>
          </a:prstGeom>
          <a:ln w="9360">
            <a:solidFill>
              <a:srgbClr val="727ca3"/>
            </a:solidFill>
            <a:miter/>
            <a:tailEnd len="med" type="arrow" w="med"/>
          </a:ln>
        </p:spPr>
      </p:cxnSp>
      <p:cxnSp>
        <p:nvCxnSpPr>
          <p:cNvPr id="361" name="Straight Arrow Connector 7"/>
          <p:cNvCxnSpPr/>
          <p:nvPr/>
        </p:nvCxnSpPr>
        <p:spPr>
          <a:xfrm>
            <a:off x="6155280" y="1988640"/>
            <a:ext cx="432360" cy="793080"/>
          </a:xfrm>
          <a:prstGeom prst="straightConnector1">
            <a:avLst/>
          </a:prstGeom>
          <a:ln w="9360">
            <a:solidFill>
              <a:srgbClr val="727ca3"/>
            </a:solidFill>
            <a:miter/>
            <a:tailEnd len="med" type="arrow" w="med"/>
          </a:ln>
        </p:spPr>
      </p:cxnSp>
      <p:cxnSp>
        <p:nvCxnSpPr>
          <p:cNvPr id="362" name="Straight Arrow Connector 8"/>
          <p:cNvCxnSpPr/>
          <p:nvPr/>
        </p:nvCxnSpPr>
        <p:spPr>
          <a:xfrm flipV="1">
            <a:off x="2484360" y="3429000"/>
            <a:ext cx="432720" cy="1440360"/>
          </a:xfrm>
          <a:prstGeom prst="straightConnector1">
            <a:avLst/>
          </a:prstGeom>
          <a:ln w="9360">
            <a:solidFill>
              <a:srgbClr val="727ca3"/>
            </a:solidFill>
            <a:miter/>
            <a:tailEnd len="med" type="arrow" w="med"/>
          </a:ln>
        </p:spPr>
      </p:cxnSp>
      <p:sp>
        <p:nvSpPr>
          <p:cNvPr id="363" name="TextBox 11"/>
          <p:cNvSpPr/>
          <p:nvPr/>
        </p:nvSpPr>
        <p:spPr>
          <a:xfrm>
            <a:off x="826920" y="162864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onstant first person</a:t>
            </a:r>
            <a:endParaRPr b="0" lang="en-US" sz="1800" spc="-1" strike="noStrike">
              <a:solidFill>
                <a:srgbClr val="000000"/>
              </a:solidFill>
              <a:latin typeface="Gill Sans MT"/>
            </a:endParaRPr>
          </a:p>
        </p:txBody>
      </p:sp>
      <p:sp>
        <p:nvSpPr>
          <p:cNvPr id="364" name="TextBox 12"/>
          <p:cNvSpPr/>
          <p:nvPr/>
        </p:nvSpPr>
        <p:spPr>
          <a:xfrm>
            <a:off x="5292720" y="1268280"/>
            <a:ext cx="136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onstant focus on brains</a:t>
            </a:r>
            <a:endParaRPr b="0" lang="en-US" sz="1800" spc="-1" strike="noStrike">
              <a:solidFill>
                <a:srgbClr val="000000"/>
              </a:solidFill>
              <a:latin typeface="Gill Sans MT"/>
            </a:endParaRPr>
          </a:p>
        </p:txBody>
      </p:sp>
      <p:sp>
        <p:nvSpPr>
          <p:cNvPr id="365" name="TextBox 13"/>
          <p:cNvSpPr/>
          <p:nvPr/>
        </p:nvSpPr>
        <p:spPr>
          <a:xfrm>
            <a:off x="2627280" y="1773360"/>
            <a:ext cx="18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e of pronoun</a:t>
            </a:r>
            <a:endParaRPr b="0" lang="en-US" sz="1800" spc="-1" strike="noStrike">
              <a:solidFill>
                <a:srgbClr val="000000"/>
              </a:solidFill>
              <a:latin typeface="Gill Sans MT"/>
            </a:endParaRPr>
          </a:p>
        </p:txBody>
      </p:sp>
      <p:sp>
        <p:nvSpPr>
          <p:cNvPr id="366" name="TextBox 14"/>
          <p:cNvSpPr/>
          <p:nvPr/>
        </p:nvSpPr>
        <p:spPr>
          <a:xfrm>
            <a:off x="5940360" y="5229360"/>
            <a:ext cx="187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polysyllabic</a:t>
            </a:r>
            <a:endParaRPr b="0" lang="en-US" sz="1800" spc="-1" strike="noStrike">
              <a:solidFill>
                <a:srgbClr val="000000"/>
              </a:solidFill>
              <a:latin typeface="Gill Sans MT"/>
            </a:endParaRPr>
          </a:p>
        </p:txBody>
      </p:sp>
      <p:sp>
        <p:nvSpPr>
          <p:cNvPr id="367" name="TextBox 15"/>
          <p:cNvSpPr/>
          <p:nvPr/>
        </p:nvSpPr>
        <p:spPr>
          <a:xfrm>
            <a:off x="1763640" y="4869000"/>
            <a:ext cx="10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Idiom</a:t>
            </a:r>
            <a:endParaRPr b="0" lang="en-US" sz="1800" spc="-1" strike="noStrike">
              <a:solidFill>
                <a:srgbClr val="000000"/>
              </a:solidFill>
              <a:latin typeface="Gill Sans MT"/>
            </a:endParaRPr>
          </a:p>
        </p:txBody>
      </p:sp>
      <p:cxnSp>
        <p:nvCxnSpPr>
          <p:cNvPr id="368" name="Straight Arrow Connector 16"/>
          <p:cNvCxnSpPr/>
          <p:nvPr/>
        </p:nvCxnSpPr>
        <p:spPr>
          <a:xfrm flipV="1">
            <a:off x="4284720" y="3357000"/>
            <a:ext cx="2232720" cy="1727640"/>
          </a:xfrm>
          <a:prstGeom prst="straightConnector1">
            <a:avLst/>
          </a:prstGeom>
          <a:ln w="9360">
            <a:solidFill>
              <a:srgbClr val="727ca3"/>
            </a:solidFill>
            <a:miter/>
            <a:tailEnd len="med" type="arrow" w="med"/>
          </a:ln>
        </p:spPr>
      </p:cxnSp>
      <p:sp>
        <p:nvSpPr>
          <p:cNvPr id="369" name="TextBox 19"/>
          <p:cNvSpPr/>
          <p:nvPr/>
        </p:nvSpPr>
        <p:spPr>
          <a:xfrm>
            <a:off x="3708360" y="5157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dditional clause</a:t>
            </a:r>
            <a:endParaRPr b="0" lang="en-US" sz="1800" spc="-1" strike="noStrike">
              <a:solidFill>
                <a:srgbClr val="000000"/>
              </a:solidFill>
              <a:latin typeface="Gill Sans MT"/>
            </a:endParaRPr>
          </a:p>
        </p:txBody>
      </p:sp>
      <p:cxnSp>
        <p:nvCxnSpPr>
          <p:cNvPr id="370" name="Straight Arrow Connector 20"/>
          <p:cNvCxnSpPr/>
          <p:nvPr/>
        </p:nvCxnSpPr>
        <p:spPr>
          <a:xfrm>
            <a:off x="7451640" y="3860280"/>
            <a:ext cx="434160" cy="793080"/>
          </a:xfrm>
          <a:prstGeom prst="straightConnector1">
            <a:avLst/>
          </a:prstGeom>
          <a:ln w="9360">
            <a:solidFill>
              <a:srgbClr val="727ca3"/>
            </a:solidFill>
            <a:miter/>
            <a:tailEnd len="med" type="arrow" w="med"/>
          </a:ln>
        </p:spPr>
      </p:cxnSp>
      <p:sp>
        <p:nvSpPr>
          <p:cNvPr id="371" name="TextBox 22"/>
          <p:cNvSpPr/>
          <p:nvPr/>
        </p:nvSpPr>
        <p:spPr>
          <a:xfrm>
            <a:off x="7667640" y="4797360"/>
            <a:ext cx="108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Slang and Idiolec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1920"/>
            <a:ext cx="8229600" cy="14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If you were faced with this extract from a spoken presentation, what would you comment on?</a:t>
            </a:r>
            <a:endParaRPr b="0" lang="en-US" sz="2900" spc="-1" strike="noStrike">
              <a:solidFill>
                <a:srgbClr val="464653"/>
              </a:solidFill>
              <a:latin typeface="Bookman Old Style"/>
            </a:endParaRPr>
          </a:p>
        </p:txBody>
      </p:sp>
      <p:sp>
        <p:nvSpPr>
          <p:cNvPr id="373" name=""/>
          <p:cNvSpPr txBox="1"/>
          <p:nvPr/>
        </p:nvSpPr>
        <p:spPr>
          <a:xfrm>
            <a:off x="457200" y="2349000"/>
            <a:ext cx="8229600" cy="380700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beauty of a tabloid is the scent of scandal which surrounds it.  I mean, how often do you get tales of footballer’s indiscretions in The Times?  There’s literally nothing more refreshing that the appalling hyperbole of the Daily Mirr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 beauty of a tabloid is the scent of scandal which surrounds it.  I mean, how often do you get tales of footballer’s indiscretions in The Times?  There’s literally nothing more refreshing that the appalling hyperbole of the Daily Mirr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cxnSp>
        <p:nvCxnSpPr>
          <p:cNvPr id="376" name="Straight Arrow Connector 4"/>
          <p:cNvCxnSpPr/>
          <p:nvPr/>
        </p:nvCxnSpPr>
        <p:spPr>
          <a:xfrm>
            <a:off x="1618200" y="1916280"/>
            <a:ext cx="432360" cy="792720"/>
          </a:xfrm>
          <a:prstGeom prst="straightConnector1">
            <a:avLst/>
          </a:prstGeom>
          <a:ln w="9360">
            <a:solidFill>
              <a:srgbClr val="727ca3"/>
            </a:solidFill>
            <a:miter/>
            <a:tailEnd len="med" type="arrow" w="med"/>
          </a:ln>
        </p:spPr>
      </p:cxnSp>
      <p:cxnSp>
        <p:nvCxnSpPr>
          <p:cNvPr id="377" name="Straight Arrow Connector 5"/>
          <p:cNvCxnSpPr/>
          <p:nvPr/>
        </p:nvCxnSpPr>
        <p:spPr>
          <a:xfrm flipH="1">
            <a:off x="5147640" y="1628640"/>
            <a:ext cx="1656360" cy="1153440"/>
          </a:xfrm>
          <a:prstGeom prst="straightConnector1">
            <a:avLst/>
          </a:prstGeom>
          <a:ln w="9360">
            <a:solidFill>
              <a:srgbClr val="727ca3"/>
            </a:solidFill>
            <a:miter/>
            <a:tailEnd len="med" type="arrow" w="med"/>
          </a:ln>
        </p:spPr>
      </p:cxnSp>
      <p:cxnSp>
        <p:nvCxnSpPr>
          <p:cNvPr id="378" name="Straight Arrow Connector 6"/>
          <p:cNvCxnSpPr/>
          <p:nvPr/>
        </p:nvCxnSpPr>
        <p:spPr>
          <a:xfrm flipH="1">
            <a:off x="6874920" y="1699920"/>
            <a:ext cx="361080" cy="1081800"/>
          </a:xfrm>
          <a:prstGeom prst="straightConnector1">
            <a:avLst/>
          </a:prstGeom>
          <a:ln w="9360">
            <a:solidFill>
              <a:srgbClr val="727ca3"/>
            </a:solidFill>
            <a:miter/>
            <a:tailEnd len="med" type="arrow" w="med"/>
          </a:ln>
        </p:spPr>
      </p:cxnSp>
      <p:cxnSp>
        <p:nvCxnSpPr>
          <p:cNvPr id="379" name="Straight Arrow Connector 7"/>
          <p:cNvCxnSpPr/>
          <p:nvPr/>
        </p:nvCxnSpPr>
        <p:spPr>
          <a:xfrm flipH="1" flipV="1">
            <a:off x="7524000" y="3933000"/>
            <a:ext cx="143640" cy="1151640"/>
          </a:xfrm>
          <a:prstGeom prst="straightConnector1">
            <a:avLst/>
          </a:prstGeom>
          <a:ln w="9360">
            <a:solidFill>
              <a:srgbClr val="727ca3"/>
            </a:solidFill>
            <a:miter/>
            <a:tailEnd len="med" type="arrow" w="med"/>
          </a:ln>
        </p:spPr>
      </p:cxnSp>
      <p:cxnSp>
        <p:nvCxnSpPr>
          <p:cNvPr id="380" name="Straight Arrow Connector 8"/>
          <p:cNvCxnSpPr/>
          <p:nvPr/>
        </p:nvCxnSpPr>
        <p:spPr>
          <a:xfrm flipV="1">
            <a:off x="1835280" y="3428640"/>
            <a:ext cx="721440" cy="1729440"/>
          </a:xfrm>
          <a:prstGeom prst="straightConnector1">
            <a:avLst/>
          </a:prstGeom>
          <a:ln w="9360">
            <a:solidFill>
              <a:srgbClr val="727ca3"/>
            </a:solidFill>
            <a:miter/>
            <a:tailEnd len="med" type="arrow" w="med"/>
          </a:ln>
        </p:spPr>
      </p:cxnSp>
      <p:sp>
        <p:nvSpPr>
          <p:cNvPr id="381" name="TextBox 11"/>
          <p:cNvSpPr/>
          <p:nvPr/>
        </p:nvSpPr>
        <p:spPr>
          <a:xfrm>
            <a:off x="1187280" y="1484280"/>
            <a:ext cx="151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se of abstract noun</a:t>
            </a:r>
            <a:endParaRPr b="0" lang="en-US" sz="1800" spc="-1" strike="noStrike">
              <a:solidFill>
                <a:srgbClr val="000000"/>
              </a:solidFill>
              <a:latin typeface="Gill Sans MT"/>
            </a:endParaRPr>
          </a:p>
        </p:txBody>
      </p:sp>
      <p:sp>
        <p:nvSpPr>
          <p:cNvPr id="382" name="TextBox 12"/>
          <p:cNvSpPr/>
          <p:nvPr/>
        </p:nvSpPr>
        <p:spPr>
          <a:xfrm>
            <a:off x="6875640" y="4941720"/>
            <a:ext cx="13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xaggeration and opinion</a:t>
            </a:r>
            <a:endParaRPr b="0" lang="en-US" sz="1800" spc="-1" strike="noStrike">
              <a:solidFill>
                <a:srgbClr val="000000"/>
              </a:solidFill>
              <a:latin typeface="Gill Sans MT"/>
            </a:endParaRPr>
          </a:p>
        </p:txBody>
      </p:sp>
      <p:sp>
        <p:nvSpPr>
          <p:cNvPr id="383" name="TextBox 13"/>
          <p:cNvSpPr/>
          <p:nvPr/>
        </p:nvSpPr>
        <p:spPr>
          <a:xfrm>
            <a:off x="2627280" y="155736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Clear focus on topic</a:t>
            </a:r>
            <a:endParaRPr b="0" lang="en-US" sz="1800" spc="-1" strike="noStrike">
              <a:solidFill>
                <a:srgbClr val="000000"/>
              </a:solidFill>
              <a:latin typeface="Gill Sans MT"/>
            </a:endParaRPr>
          </a:p>
        </p:txBody>
      </p:sp>
      <p:sp>
        <p:nvSpPr>
          <p:cNvPr id="384" name="TextBox 14"/>
          <p:cNvSpPr/>
          <p:nvPr/>
        </p:nvSpPr>
        <p:spPr>
          <a:xfrm>
            <a:off x="6659640" y="1268280"/>
            <a:ext cx="187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lliteration</a:t>
            </a:r>
            <a:endParaRPr b="0" lang="en-US" sz="1800" spc="-1" strike="noStrike">
              <a:solidFill>
                <a:srgbClr val="000000"/>
              </a:solidFill>
              <a:latin typeface="Gill Sans MT"/>
            </a:endParaRPr>
          </a:p>
        </p:txBody>
      </p:sp>
      <p:sp>
        <p:nvSpPr>
          <p:cNvPr id="385" name="TextBox 15"/>
          <p:cNvSpPr/>
          <p:nvPr/>
        </p:nvSpPr>
        <p:spPr>
          <a:xfrm>
            <a:off x="1042920" y="501336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Discourse marker</a:t>
            </a:r>
            <a:endParaRPr b="0" lang="en-US" sz="1800" spc="-1" strike="noStrike">
              <a:solidFill>
                <a:srgbClr val="000000"/>
              </a:solidFill>
              <a:latin typeface="Gill Sans MT"/>
            </a:endParaRPr>
          </a:p>
        </p:txBody>
      </p:sp>
      <p:cxnSp>
        <p:nvCxnSpPr>
          <p:cNvPr id="386" name="Straight Arrow Connector 16"/>
          <p:cNvCxnSpPr/>
          <p:nvPr/>
        </p:nvCxnSpPr>
        <p:spPr>
          <a:xfrm flipH="1" flipV="1">
            <a:off x="4426920" y="3859920"/>
            <a:ext cx="216360" cy="1081800"/>
          </a:xfrm>
          <a:prstGeom prst="straightConnector1">
            <a:avLst/>
          </a:prstGeom>
          <a:ln w="9360">
            <a:solidFill>
              <a:srgbClr val="727ca3"/>
            </a:solidFill>
            <a:miter/>
            <a:tailEnd len="med" type="arrow" w="med"/>
          </a:ln>
        </p:spPr>
      </p:cxnSp>
      <p:sp>
        <p:nvSpPr>
          <p:cNvPr id="387" name="TextBox 19"/>
          <p:cNvSpPr/>
          <p:nvPr/>
        </p:nvSpPr>
        <p:spPr>
          <a:xfrm>
            <a:off x="3708360" y="494172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xamples and comparison</a:t>
            </a:r>
            <a:endParaRPr b="0" lang="en-US" sz="1800" spc="-1" strike="noStrike">
              <a:solidFill>
                <a:srgbClr val="000000"/>
              </a:solidFill>
              <a:latin typeface="Gill Sans MT"/>
            </a:endParaRPr>
          </a:p>
        </p:txBody>
      </p:sp>
      <p:cxnSp>
        <p:nvCxnSpPr>
          <p:cNvPr id="388" name="Straight Arrow Connector 17"/>
          <p:cNvCxnSpPr/>
          <p:nvPr/>
        </p:nvCxnSpPr>
        <p:spPr>
          <a:xfrm>
            <a:off x="3058200" y="3933360"/>
            <a:ext cx="649800" cy="1151640"/>
          </a:xfrm>
          <a:prstGeom prst="straightConnector1">
            <a:avLst/>
          </a:prstGeom>
          <a:ln w="9360">
            <a:solidFill>
              <a:srgbClr val="727ca3"/>
            </a:solidFill>
            <a:miter/>
            <a:tailEnd len="med" type="arrow" w="med"/>
          </a:ln>
        </p:spPr>
      </p:cxnSp>
      <p:cxnSp>
        <p:nvCxnSpPr>
          <p:cNvPr id="389" name="Straight Arrow Connector 18"/>
          <p:cNvCxnSpPr/>
          <p:nvPr/>
        </p:nvCxnSpPr>
        <p:spPr>
          <a:xfrm>
            <a:off x="3211560" y="1988640"/>
            <a:ext cx="434160" cy="793080"/>
          </a:xfrm>
          <a:prstGeom prst="straightConnector1">
            <a:avLst/>
          </a:prstGeom>
          <a:ln w="9360">
            <a:solidFill>
              <a:srgbClr val="727ca3"/>
            </a:solidFill>
            <a:miter/>
            <a:tailEnd len="med" type="arrow" w="med"/>
          </a:ln>
        </p:spPr>
      </p:cxnSp>
      <p:cxnSp>
        <p:nvCxnSpPr>
          <p:cNvPr id="390" name="Straight Arrow Connector 24"/>
          <p:cNvCxnSpPr/>
          <p:nvPr/>
        </p:nvCxnSpPr>
        <p:spPr>
          <a:xfrm flipV="1">
            <a:off x="5940360" y="4292280"/>
            <a:ext cx="1008720" cy="1008720"/>
          </a:xfrm>
          <a:prstGeom prst="straightConnector1">
            <a:avLst/>
          </a:prstGeom>
          <a:ln w="9360">
            <a:solidFill>
              <a:srgbClr val="727ca3"/>
            </a:solidFill>
            <a:miter/>
            <a:tailEnd len="med" type="arrow" w="med"/>
          </a:ln>
        </p:spPr>
      </p:cxnSp>
      <p:sp>
        <p:nvSpPr>
          <p:cNvPr id="391" name="TextBox 27"/>
          <p:cNvSpPr/>
          <p:nvPr/>
        </p:nvSpPr>
        <p:spPr>
          <a:xfrm>
            <a:off x="5580000" y="5373720"/>
            <a:ext cx="10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Language device</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Now write a short paragraph to comment on the effect of the lexis used in this extract:</a:t>
            </a:r>
            <a:endParaRPr b="0" lang="en-US" sz="2900" spc="-1" strike="noStrike">
              <a:solidFill>
                <a:srgbClr val="464653"/>
              </a:solidFill>
              <a:latin typeface="Bookman Old Style"/>
            </a:endParaRPr>
          </a:p>
        </p:txBody>
      </p:sp>
      <p:sp>
        <p:nvSpPr>
          <p:cNvPr id="393" name=""/>
          <p:cNvSpPr txBox="1"/>
          <p:nvPr/>
        </p:nvSpPr>
        <p:spPr>
          <a:xfrm>
            <a:off x="457200" y="1219320"/>
            <a:ext cx="8229600" cy="4937040"/>
          </a:xfrm>
          <a:prstGeom prst="rect">
            <a:avLst/>
          </a:prstGeom>
          <a:noFill/>
          <a:ln w="0">
            <a:noFill/>
          </a:ln>
        </p:spPr>
        <p:txBody>
          <a:bodyPr lIns="90000" rIns="90000" tIns="46800" bIns="46800"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A stripper monologue:</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t’s beyond a joke now, working in that crappy club, night after night.  I can’t bear it any longer.  Why can’t I be dazzled with diamonds and bouquets in my own dressing room, with lights round the mirror? (3.0)  This isn’t what I signed up for at all.</a:t>
            </a: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omment on why you (the writer) have chosen to include 2 of the examples of lexis from this monologue and what it shows about the characte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133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464653"/>
                </a:solidFill>
                <a:latin typeface="Bookman Old Style"/>
              </a:rPr>
              <a:t>Now write a short paragraph to comment on the effect of the grammar used in this extract:</a:t>
            </a:r>
            <a:endParaRPr b="0" lang="en-US" sz="2900" spc="-1" strike="noStrike">
              <a:solidFill>
                <a:srgbClr val="464653"/>
              </a:solidFill>
              <a:latin typeface="Bookman Old Style"/>
            </a:endParaRPr>
          </a:p>
        </p:txBody>
      </p:sp>
      <p:sp>
        <p:nvSpPr>
          <p:cNvPr id="395" name=""/>
          <p:cNvSpPr txBox="1"/>
          <p:nvPr/>
        </p:nvSpPr>
        <p:spPr>
          <a:xfrm>
            <a:off x="457200" y="1557000"/>
            <a:ext cx="8229600" cy="4599000"/>
          </a:xfrm>
          <a:prstGeom prst="rect">
            <a:avLst/>
          </a:prstGeom>
          <a:noFill/>
          <a:ln w="0">
            <a:noFill/>
          </a:ln>
        </p:spPr>
        <p:txBody>
          <a:bodyPr lIns="90000" rIns="90000" tIns="46800" bIns="46800" anchor="t">
            <a:normAutofit fontScale="94000"/>
          </a:bodyPr>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peech:</a:t>
            </a: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ifling.  Stereotypical.  Tired.  That’s the way I, and many others, view the gender stereotyping language theories peddled by the likes of Lakoff and Tannen so many years ago.  Can we make our own stereotypes?  Can we review the habits of our generation?  Should we?</a:t>
            </a: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ment on why you (the speaker) have chosen to include 2 of the examples of grammar and what it shows about the message and tone you were trying to cre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ooking at two examples</a:t>
            </a:r>
            <a:endParaRPr b="0" lang="en-US" sz="3200" spc="-1" strike="noStrike">
              <a:solidFill>
                <a:srgbClr val="464653"/>
              </a:solidFill>
              <a:latin typeface="Bookman Old Style"/>
            </a:endParaRPr>
          </a:p>
        </p:txBody>
      </p:sp>
      <p:sp>
        <p:nvSpPr>
          <p:cNvPr id="397" name=""/>
          <p:cNvSpPr txBox="1"/>
          <p:nvPr/>
        </p:nvSpPr>
        <p:spPr>
          <a:xfrm>
            <a:off x="457200" y="1219320"/>
            <a:ext cx="8229600" cy="4937040"/>
          </a:xfrm>
          <a:prstGeom prst="rect">
            <a:avLst/>
          </a:prstGeom>
          <a:noFill/>
          <a:ln w="0">
            <a:noFill/>
          </a:ln>
        </p:spPr>
        <p:txBody>
          <a:bodyPr lIns="90000" rIns="90000" tIns="46800" bIns="46800" anchor="t">
            <a:normAutofit fontScale="97000"/>
          </a:bodyPr>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There are two examples of commentaries, </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Speech p141: which relates to the speech on page 138-9</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Monologue p154: which relates to the monologue on page 152.</a:t>
            </a: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64600" indent="-2646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Choosing the one which you are doing, sit with someone else who is also doing that genre and see if you can improve one of the paragraphs using the markscheme on the next slide as a starting poin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Commentary markscheme</a:t>
            </a:r>
            <a:endParaRPr b="0" lang="en-US" sz="3200" spc="-1" strike="noStrike">
              <a:solidFill>
                <a:srgbClr val="464653"/>
              </a:solidFill>
              <a:latin typeface="Bookman Old Style"/>
            </a:endParaRPr>
          </a:p>
        </p:txBody>
      </p:sp>
      <p:pic>
        <p:nvPicPr>
          <p:cNvPr id="399" name="Content Placeholder 3" descr=""/>
          <p:cNvPicPr/>
          <p:nvPr/>
        </p:nvPicPr>
        <p:blipFill>
          <a:blip r:embed="rId1"/>
          <a:srcRect l="21218" t="19620" r="19066" b="49138"/>
          <a:stretch/>
        </p:blipFill>
        <p:spPr>
          <a:xfrm>
            <a:off x="684360" y="1341360"/>
            <a:ext cx="7280280" cy="2379600"/>
          </a:xfrm>
          <a:prstGeom prst="rect">
            <a:avLst/>
          </a:prstGeom>
          <a:ln w="0">
            <a:noFill/>
          </a:ln>
        </p:spPr>
      </p:pic>
      <p:pic>
        <p:nvPicPr>
          <p:cNvPr id="400" name="Picture 4" descr=""/>
          <p:cNvPicPr/>
          <p:nvPr/>
        </p:nvPicPr>
        <p:blipFill>
          <a:blip r:embed="rId2"/>
          <a:srcRect l="21218" t="53527" r="19184" b="16190"/>
          <a:stretch/>
        </p:blipFill>
        <p:spPr>
          <a:xfrm>
            <a:off x="755640" y="4005360"/>
            <a:ext cx="7201080" cy="223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1T13:40:09Z</dcterms:created>
  <dc:creator>kwalker</dc:creator>
  <dc:description/>
  <dc:language>en-US</dc:language>
  <cp:lastModifiedBy>greatrex_j</cp:lastModifiedBy>
  <dcterms:modified xsi:type="dcterms:W3CDTF">2011-09-06T09:32:52Z</dcterms:modified>
  <cp:revision>21</cp:revision>
  <dc:subject/>
  <dc:title>Writing commentaries</dc:title>
</cp:coreProperties>
</file>